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28ED-9680-4BAC-BF31-0A563BB666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A36B-6DC1-466A-8CEA-55C6D3233A7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CB9-729D-4C8F-A8B7-ACF2A0078F9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2FE9-B675-4F0A-A6AD-2780C009E55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8ED5-B8F4-4910-9A78-072CD13C20B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142A-E5AD-43BB-AAFA-BD0285F3FF9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F020-7E19-40FB-BAC6-7B24C91CD83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651F-34C1-4EF4-9671-95EF12FA2A9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EA45-0533-4371-864C-46E620284AF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4106-E63C-4E0F-97EF-9AF34A9D935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391D-8767-4A7F-AA23-3424E863967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B5B8-6C82-4F2F-95EB-3F66E4E9510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BDB7-000C-4A7E-8656-D0939EFB9E6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6D2-E097-430D-989E-2D0AAAD93CC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0D8C-D609-4E83-835F-1267794C491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54AE-1809-4C31-A2F2-3BA25E15298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B148-F357-4DDA-B5FF-AC8A67E6237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15A3-870B-4CC0-A47E-559EBB959FC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F2C4-336B-42C6-81AB-4DC759A65AD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505-455C-4953-B045-1D99A1ADAD8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BBBD-FB40-413A-AAC4-DFBC328FEC1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AE26-429E-4068-BC87-6FD5488D2F2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80B9-AD39-4A78-ADFF-54FBD186A3D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4F03-BCDB-41CB-B51C-72A9A9A5B5E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AF8-C99E-490C-8BC1-E28B25F4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BCC-6624-48D4-9CFA-D2A60188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CCB-3647-4A6A-8431-E99AC288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5B5-7CE5-4E22-BF40-7D3EF0F9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A61A-74D8-4E11-9D83-7D9195B2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3BF6-CD38-4303-87D7-97C3AA07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355D-8E8F-4A32-9BE6-8E8C1015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B670-4275-4A48-8EE8-53BC795C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0F48-E8C4-4F25-A4F4-9AE3E433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1441-1F3A-4360-9062-1E93A96A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F46F-CCDB-4324-9450-6BBF51F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552-6E4B-4D65-A9E0-F735043D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350B-762F-4C83-A592-4918E6B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D262-36ED-4615-A469-B3E1CB98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BCB0-EAD0-4B53-A515-B5CEF879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6CF9-4810-436A-996B-8C378146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8770-17FD-4481-9AAF-001E3E31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5EB-09A5-432D-99DC-41E27A08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274-C77D-4598-A0DE-6A700887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1AD-CDE8-43C9-820F-FE5F1D76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90B-75EA-4462-A08A-EDCC489B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516-9EF4-44C5-B705-EDB3D46E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EDF-61C2-4F61-B3A7-06C6B23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E14-76C6-4151-922E-AB3EFC00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B882-B62E-44A3-9D3C-8D37D0F57D2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E879-C458-4190-9BE9-D92DEE92CE9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ff99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64000" y="1484280"/>
            <a:ext cx="378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Dario Quintavalle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ior Executiv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istry of Justice, Ita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rt Manager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rveillance Court of R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quadriga"/>
          <p:cNvPicPr/>
          <p:nvPr/>
        </p:nvPicPr>
        <p:blipFill>
          <a:blip r:embed="rId1"/>
          <a:stretch/>
        </p:blipFill>
        <p:spPr>
          <a:xfrm>
            <a:off x="324000" y="1781280"/>
            <a:ext cx="696276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Surveillance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ibunale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operates as a court of first instance, and as a court of appeal towards the decisions of the Surveillance Jud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urveillance Judge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gistrato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is a judge of first ins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: 4 members = 2 judges + 2 experts (psychology, social services, education, psychiatry and clinical criminology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8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anti-Mafia prison regi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Be our friend…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book: Tribunale di Sorveglianza di Ro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tte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ick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Governan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reme Council of Jud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ired by the President of the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ed by all Magistr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s Chief Judges and Prosecu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as disciplinary court for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inistry of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ruitment of Magistrates, Barristers, Notaries, Court Cle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main depart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Administ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son Adminis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Justic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s of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.000 employ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Administrator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s of the Ministry of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harge of Human Resources, Organization, Financ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to evaluation by the M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mpowered until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1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main criminal organization (MAF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rime: “Mafia-style associ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: National Direction Anti-maf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A: National Procuror Anti-mafia under surveillance of the General Prosecutor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lse and co-ordination of OC investig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DA: District Direction Anti-mafia (2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: interforce Anti-mafia police agen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2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1-bis prison regime: mafia + terrorism +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he use of the telephone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all association or correspondence with other prisoner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meetings with third par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trictions on visits from members of the family (once per month and visitors are only allowed to communicate by intercom through thick glass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receiving or sending sums of money over a set amount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organizing cultural, recreational or sporting activi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voting or standing in elections for prisoner representativ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aking part in arts-and-crafts activ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3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06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41-bis decr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scation of all assets and destination to social u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About Italy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country since 18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mocratic republic since 19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 and NATO founding m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largest GDP in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° best health care system in the world (WH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radle of Law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University in the world (Law School of Bologna 108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untry to abolish death penalty (178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just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Ongoing Problem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ed Cr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r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 conflict between politics and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number of civil proceedings pending (5 millio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length of Criminal Proceedings = several condemnations by ECH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mbersome legislation (20.000 laws) under c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most important Italian contribution to the Ukrainian Judiciary so far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presso Coffee machines ! 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2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Questions? and Answers!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4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Population and Immigration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5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.000.000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million immig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300.000 Ukrainians ( “Badanti” = caring lad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Governance and Rule of Law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bi-cam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of the Re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Mini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 Re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te La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Dec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reg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Law (not in Civil and Criminal matt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risdictions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inary (Civil and Crimi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ccoun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agistrate Body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000 ca. (+ 3500 honorary jud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and self-gove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ecutors +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ed by public compet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er progression by seni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eputation and presti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 magistrates killed (1969 – 199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427640" y="530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Giovanni Falcone - Paolo Borsell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The Court System </a:t>
            </a:r>
            <a:br>
              <a:rPr sz="4000"/>
            </a:b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(Civil + Criminal)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Cass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First Ins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 of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Prosecu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secutors dispose of special section of Police (Judiciary Police), co-ordinate investigations  and promote criminal 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stice system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 to have 3 hearings, until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uling is definitive and executive before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Cassation rules out, new h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 are new judgments and not revision of the precedent ruling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vum judici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jury trial but most serious cases heard by a Court of Assize composed of two professional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Togat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six lay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Popola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.000 people in jail (1/2 of them foreigners… but very few Ukrainians!), frequent amnes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 forbids non-humane treat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 superintend on the whole correctional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s on probatio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orcement of verdict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e san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 mea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13:54Z</dcterms:created>
  <dc:creator>pippo</dc:creator>
  <dc:description/>
  <dc:language>en-US</dc:language>
  <cp:lastModifiedBy>lipovyi</cp:lastModifiedBy>
  <dcterms:modified xsi:type="dcterms:W3CDTF">2013-08-01T09:24:54Z</dcterms:modified>
  <cp:revision>41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