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87F3-8548-484F-AFA0-0B623F53600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80C3-94F2-4266-A5B9-BE3C474C894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FC41-830E-4E62-830C-516F5A4EB3D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DA7C-9FEA-4DB2-B5E6-673382CEDD4B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ell, you have probably seen the film “Angels and Demo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0C80-5893-4700-AFF1-32452FD915B3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52C3-6752-4C7F-9BF9-4E9EA4453F52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BE03-7D8D-49F1-86F0-8343D6E96600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E00B-DB91-4F7A-8942-AEA8B2E0751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BCB8-ED95-4B3C-B96E-03DC2F6699A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7820-E7A7-491A-B9F8-78955B3E49D6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7687-843D-4915-9494-1EE770AC2C0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F6EB-2FA8-430D-B252-DF7D8C7F14D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A56F-3229-4E99-A477-358E9CE05BF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E15A-C236-4D4C-B3D7-29A7ABF8296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2185-E1DF-40BE-ABB4-92FE700AEA5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1A74-45D7-48B1-8D94-0F5CFFE5F443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F504-7B56-458F-B7EE-07F2A3E4057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F57B-0D08-4893-AEFA-27F5F4064133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0289-DEDD-4FE6-9A30-DFFA23C0F286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DAAF-5F9A-480E-8040-D0955141507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FEF7-9BAC-4A34-B3ED-544DF7299A8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75C6-75BE-49D1-926C-8A4B1F4E4EA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49B6-A4CE-4886-B797-35E707EE0E0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6479-FCAC-4F01-82F6-BAC7F79FAF5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BE8-CBC9-4A28-97DE-1356AAFF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5F1-CD13-4872-8AD5-F0F099A6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0438-7B2F-41C0-97BD-0EC25A8D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396-E395-43D3-9FA3-E0EBFAFC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20CB-03F4-447F-BCF3-373311F7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3559-1210-4F77-8770-5A6C93F5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BD91-3B55-406B-BE33-7282F1F6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B958-B2C4-4ACB-AE5F-26E57A14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FB83-E4F1-43CB-9F2E-BE3383C5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04EA-95D9-4D56-8CDE-1E71A82B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88D9-B633-4AF7-98A8-EA4BF424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A2B-CAEB-4662-9016-AB62D3D1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DEF6-9E6F-4EF0-8F99-9D82849D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AF4C-C88F-43B5-B4FA-68FA561E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6B1F-1E34-4977-8643-01575EF7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5A45-5A07-48A6-8297-AFF6E929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201F-30B4-4828-8283-EDBFC0FF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A6D-73F7-4C50-864A-82AA34E0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12C1-0025-4931-9FED-FD2B603E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788-3D69-4236-8B6F-6135A673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EDDF-9EA2-4F65-A56B-56892373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84A-DEA5-4191-A80B-25C04C65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0374-762E-4BDF-B685-6DC82EB6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A7A-28C8-40FC-964E-12589174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0FCC-2CF0-4E09-8B76-29599C593018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9DBD-81AB-4993-8F5E-384B226E5E18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ribsorvroma.wordpress.com/" TargetMode="External"/><Relationship Id="rId2" Type="http://schemas.openxmlformats.org/officeDocument/2006/relationships/hyperlink" Target="http://twitter.com/tribsorv" TargetMode="External"/><Relationship Id="rId3" Type="http://schemas.openxmlformats.org/officeDocument/2006/relationships/hyperlink" Target="http://www.flickr.com/photos/46730249@N02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ff99"/>
                </a:solidFill>
                <a:latin typeface="Arial"/>
              </a:rPr>
              <a:t>Система судоустрою Італії</a:t>
            </a:r>
            <a:br>
              <a:rPr sz="2400"/>
            </a:br>
            <a:endParaRPr b="0" lang="en-US" sz="2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364000" y="1484280"/>
            <a:ext cx="3780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y Dario Quintavalle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ior Executiv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nistry of Justice, Ita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urt Manager of th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rveillance Court of Ro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7" descr="quadriga"/>
          <p:cNvPicPr/>
          <p:nvPr/>
        </p:nvPicPr>
        <p:blipFill>
          <a:blip r:embed="rId1"/>
          <a:stretch/>
        </p:blipFill>
        <p:spPr>
          <a:xfrm>
            <a:off x="324000" y="1781280"/>
            <a:ext cx="6962760" cy="50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Surveillance Justic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eillance Court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ribunale di Sorveglianz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operates as a court of first instance, and as a court of appeal towards the decisions of the Surveillance Jud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urveillance Judge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gistrato di Sorveglianz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is a judge of first instan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eillance Court: 4 members = 2 judges + 2 experts (psychology, social services, education, psychiatry and clinical criminology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Surveillance Court of Ro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88" name="Picture 7" descr="DSC04275p"/>
          <p:cNvPicPr/>
          <p:nvPr/>
        </p:nvPicPr>
        <p:blipFill>
          <a:blip r:embed="rId1"/>
          <a:stretch/>
        </p:blipFill>
        <p:spPr>
          <a:xfrm>
            <a:off x="324000" y="1628640"/>
            <a:ext cx="860400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Surveillance Court of Ro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300720" y="1628640"/>
            <a:ext cx="2843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rveillance Court of Rome is the court competent on nationwide level on appeals against the anti-Mafia prison regim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6" descr="DSC09219"/>
          <p:cNvPicPr/>
          <p:nvPr/>
        </p:nvPicPr>
        <p:blipFill>
          <a:blip r:embed="rId1"/>
          <a:stretch/>
        </p:blipFill>
        <p:spPr>
          <a:xfrm>
            <a:off x="250920" y="177336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Be our friend…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580000" y="1628280"/>
            <a:ext cx="356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: </a:t>
            </a:r>
            <a:r>
              <a:rPr b="0" lang="en-US" sz="2400" spc="-1" strike="noStrike" u="sng">
                <a:solidFill>
                  <a:srgbClr val="ddd800"/>
                </a:solidFill>
                <a:uFillTx/>
                <a:latin typeface="Tahoma"/>
                <a:hlinkClick r:id="rId1"/>
              </a:rPr>
              <a:t>http://tribsorvroma.wordpress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ebook: Tribunale di Sorveglianza di Ro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itter: </a:t>
            </a:r>
            <a:r>
              <a:rPr b="0" lang="en-US" sz="2400" spc="-1" strike="noStrike" u="sng">
                <a:solidFill>
                  <a:srgbClr val="ddd800"/>
                </a:solidFill>
                <a:uFillTx/>
                <a:latin typeface="Tahoma"/>
                <a:hlinkClick r:id="rId2"/>
              </a:rPr>
              <a:t>http://twitter.com/tribsor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ickr: </a:t>
            </a:r>
            <a:r>
              <a:rPr b="0" lang="en-US" sz="2400" spc="-1" strike="noStrike" u="sng">
                <a:solidFill>
                  <a:srgbClr val="ddd800"/>
                </a:solidFill>
                <a:uFillTx/>
                <a:latin typeface="Tahoma"/>
                <a:hlinkClick r:id="rId3"/>
              </a:rPr>
              <a:t>http://www.flickr.com/photos/46730249@N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5" descr="pan"/>
          <p:cNvPicPr/>
          <p:nvPr/>
        </p:nvPicPr>
        <p:blipFill>
          <a:blip r:embed="rId4"/>
          <a:stretch/>
        </p:blipFill>
        <p:spPr>
          <a:xfrm>
            <a:off x="179280" y="1773360"/>
            <a:ext cx="5400720" cy="44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ourt Governanc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upreme Council of Judg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ired by the President of the Re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ed by all Magistr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oints Chief Judges and Prosecu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as disciplinary court for Jud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Ministry of Justic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ruitment of Magistrates, Barristers, Notaries, Court Cle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main departm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Administ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son Administ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venile Justice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tics of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0.000 employ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ourt Administrators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s of the Ministry of Jus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harge of Human Resources, Organization, Financ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 to evaluation by the M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empowered until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1. Fight against organized cri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main criminal organization (MAF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crime: “Mafia-style associatio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: National Direction Anti-maf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NA: National Procuror Anti-mafia under surveillance of the General Prosecutor of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ulse and co-ordination of OC investig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DA: District Direction Anti-mafia (2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: interforce Anti-mafia police agenc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2. Fight against organized cri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2560" y="162864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1-bis prison regime: mafia + terrorism +dru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the use of the telephone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all association or correspondence with other prisoner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meetings with third parti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trictions on visits from members of the family (once per month and visitors are only allowed to communicate by intercom through thick glass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receiving or sending sums of money over a set amount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organizing cultural, recreational or sporting activiti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voting or standing in elections for prisoner representativ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taking part in arts-and-crafts activi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3. Fight against organized cri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206" name="Picture 5" descr="arresto_provenzano"/>
          <p:cNvPicPr/>
          <p:nvPr/>
        </p:nvPicPr>
        <p:blipFill>
          <a:blip r:embed="rId1"/>
          <a:stretch/>
        </p:blipFill>
        <p:spPr>
          <a:xfrm>
            <a:off x="250920" y="1989000"/>
            <a:ext cx="4389480" cy="385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rveillance Court of Rome is the court competent on nationwide level on appeals against the 41-bis decre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iscation of all assets and destination to social ut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About Italy 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ted country since 186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democratic republic since 194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 and NATO founding memb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largest GDP in the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° best health care system in the world (WH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radle of Law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University in the world (Law School of Bologna 108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ountry to abolish death penalty (178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rojust m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Ongoing Problems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41264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zed Cr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Corru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anent conflict between politics and judici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ssive number of civil proceedings pending (5 million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ssive length of Criminal Proceedings = several condemnations by ECH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mbersome legislation (20.000 laws) under cod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e most important Italian contribution to the Ukrainian Judiciary so far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presso Coffee machines !  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212" name="Picture 5" descr="coffeemachine"/>
          <p:cNvPicPr/>
          <p:nvPr/>
        </p:nvPicPr>
        <p:blipFill>
          <a:blip r:embed="rId1"/>
          <a:stretch/>
        </p:blipFill>
        <p:spPr>
          <a:xfrm>
            <a:off x="1692360" y="1413000"/>
            <a:ext cx="5740200" cy="52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Questions? and Answers!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214" name="Picture 5" descr="puntoint"/>
          <p:cNvPicPr/>
          <p:nvPr/>
        </p:nvPicPr>
        <p:blipFill>
          <a:blip r:embed="rId1"/>
          <a:stretch/>
        </p:blipFill>
        <p:spPr>
          <a:xfrm>
            <a:off x="1187280" y="1700280"/>
            <a:ext cx="69850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Population and Immigration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65" name="Picture 5" descr="Stranieri_in_Italia_2008"/>
          <p:cNvPicPr/>
          <p:nvPr/>
        </p:nvPicPr>
        <p:blipFill>
          <a:blip r:embed="rId1"/>
          <a:stretch/>
        </p:blipFill>
        <p:spPr>
          <a:xfrm>
            <a:off x="324000" y="2924280"/>
            <a:ext cx="8604000" cy="3744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324000" y="1197000"/>
            <a:ext cx="842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0.000.000 peo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million immigr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 300.000 Ukrainians ( “Badanti” = caring ladi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Governance and Rule of Law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liament bi-came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pendent Judici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nt of the Republ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Mini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 Reg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te La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 Decr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ministrative regul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Law (not in Civil and Criminal matter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Jurisdictions 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32000" y="1599840"/>
            <a:ext cx="375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al Cou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dinary (Civil and Crimin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ministrati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Account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lit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sc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19" descr="giudici"/>
          <p:cNvPicPr/>
          <p:nvPr/>
        </p:nvPicPr>
        <p:blipFill>
          <a:blip r:embed="rId1"/>
          <a:stretch/>
        </p:blipFill>
        <p:spPr>
          <a:xfrm>
            <a:off x="179280" y="1700280"/>
            <a:ext cx="4608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Magistrate Body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000 ca. (+ 3500 honorary judg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pendent and self-gover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secutors + Jud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ected by public compet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eer progression by senio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reputation and presti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7 magistrates killed (1969 – 199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8" descr="falcone_borsellino"/>
          <p:cNvPicPr/>
          <p:nvPr/>
        </p:nvPicPr>
        <p:blipFill>
          <a:blip r:embed="rId1"/>
          <a:stretch/>
        </p:blipFill>
        <p:spPr>
          <a:xfrm>
            <a:off x="4284720" y="1700280"/>
            <a:ext cx="4608360" cy="3124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4427640" y="5300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Giovanni Falcone - Paolo Borselli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99"/>
                </a:solidFill>
                <a:latin typeface="Arial"/>
              </a:rPr>
              <a:t>The Court System </a:t>
            </a:r>
            <a:br>
              <a:rPr sz="4000"/>
            </a:br>
            <a:r>
              <a:rPr b="0" lang="en-US" sz="4000" spc="-1" strike="noStrike">
                <a:solidFill>
                  <a:srgbClr val="ccff99"/>
                </a:solidFill>
                <a:latin typeface="Arial"/>
              </a:rPr>
              <a:t>(Civil + Criminal)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Cass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App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First Insta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ice of Pe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Public Prosecutor at the Court of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Public Prosecutor at the Court of App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Prosecu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33"/>
          <p:cNvSpPr/>
          <p:nvPr/>
        </p:nvSpPr>
        <p:spPr>
          <a:xfrm>
            <a:off x="4859280" y="5229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secutors dispose of special section of Police (Judiciary Police), co-ordinate investigations  and promote criminal 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Justice system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ght to have 3 hearings, until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ruling is definitive and executive before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Cassation rules out, new hea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eal are new judgments and not revision of the precedent ruling 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ovum judici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jury trial but most serious cases heard by a Court of Assize composed of two professional judges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iudici Togat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six lay judges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iudici Popolar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Surveillance Courts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0.000 people in jail (1/2 of them foreigners… but very few Ukrainians!), frequent amnes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 forbids non-humane treat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 superintend on the whole correctional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ides on probation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forcement of verdict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ernative san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urity meas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5:13:54Z</dcterms:created>
  <dc:creator>pippo</dc:creator>
  <dc:description/>
  <dc:language>en-US</dc:language>
  <cp:lastModifiedBy>lipovyi</cp:lastModifiedBy>
  <dcterms:modified xsi:type="dcterms:W3CDTF">2013-08-01T09:24:54Z</dcterms:modified>
  <cp:revision>41</cp:revision>
  <dc:subject/>
  <dc:title>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</Properties>
</file>