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5EE4-373A-4F47-B444-28AC05A08C3D}"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D81D-DB56-4469-ADA9-69232C4E935C}"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0898-A544-4419-A127-859F4054B35D}"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5E35-8F98-431B-9D91-FF0A7C2F0CF8}"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CC04-CD90-4A48-B821-74B0554E5E2E}"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5AC9-6A71-4987-B5BD-158D93CBEA32}"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9B47-10A3-4C31-8389-475A7C59E689}"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EBAD-EBC5-4664-A9E3-52F85C2BEAD4}"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FBED-C379-4F94-A8D3-680A201846EA}"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4EE3-D336-4CAF-AB9B-7B1048F6C159}"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F917F207-8603-492F-8643-2AA15480C1A6}"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CAE23966-ECD0-47A2-8FB3-FB7098CAF29A}" type="datetime">
              <a:rPr b="0" lang="sv-SE" sz="800" spc="-1" strike="noStrike">
                <a:solidFill>
                  <a:srgbClr val="c0c0c0"/>
                </a:solidFill>
                <a:latin typeface="Times New Roman"/>
              </a:rPr>
              <a:t>26-07-29</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A729663F-E4FF-4E68-8D6B-6EC536D4B883}"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7AB1E49D-A005-40B7-98FB-AAA9F7F92C61}" type="datetime">
              <a:rPr b="0" lang="sv-SE" sz="800" spc="-1" strike="noStrike">
                <a:solidFill>
                  <a:srgbClr val="c0c0c0"/>
                </a:solidFill>
                <a:latin typeface="Times New Roman"/>
              </a:rPr>
              <a:t>26-07-29</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51D76669-D933-4957-B84A-E49ACC07A11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55C8B09-BC0D-483E-8124-100C6107BB68}"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663FB44-439C-402D-BF37-57E4E2B4BB5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0E53D6A-0F20-4CF3-8667-594D1E1A087E}"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50886C1-5291-4C12-985C-8CBD42A9F1F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046ABEAF-C5C0-4DBE-B5E9-8BEF9CC823CD}"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7A9F367-DEE0-4E54-BDDA-C721E6939A6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00A2B66C-81A2-4B14-A28C-91EF9D8D4451}"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7417022-5A3A-4B80-B364-D815610F2503}"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D109CFC-3F22-402D-9475-0BCE9B4BAD30}"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042BBE5-6E4C-4383-B5D1-77D69F5A35F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F70442E-5D49-472D-98D2-0F9DEB049DC6}"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E76FC37C-056F-43AD-98E1-3A86A9B070E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E3AE689-4547-40D7-B2FF-9C7B96308063}"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95FB4E03-7DF5-45FC-B9CE-06D6FBBE4E73}"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E0B58CD-F8B5-4335-BBAB-7AF91F4A61E9}"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7332065-9739-49F8-802A-321A6BE389A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324675A-B0A1-4696-ACA8-46E4E935EB47}"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3AB7BC8C-4116-4928-BF4C-807FA98EBEC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37D9AB0-FC33-4604-A985-9B00CC6960FB}"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14F43B0-D5A2-4878-90AF-6F545830CB9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DACA92B-33D1-46E0-87FF-672FC2E6B0DD}"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0104D50E-5512-4068-9EC6-FB930B985CE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B860F4C-8F03-4108-B67F-DEA362B6909A}"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7A9A605-5684-4EFF-8AF4-7F77DDAD36C3}"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3C21BC3-7E29-4405-A583-EB7941712103}"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03B37ADF-0600-4498-8AF3-52740E0251E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5BF3A95-E08D-489C-BE46-77FB484BC928}"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