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9.wmf" ContentType="image/x-wmf"/>
  <Override PartName="/ppt/media/image13.wmf" ContentType="image/x-wmf"/>
  <Override PartName="/ppt/media/image5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607F-F594-4DED-8021-8090695EFE0C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D96E-D228-4FE8-A499-D40FC3BA7D28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B631-52FC-4D02-84DC-153BB85BEAC9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092240" y="87480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3120" cy="41796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MBOLFÖRKLARINGOCH ARBETSGÅ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. Mottagare av processens slutresult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. Vem/vilken aktör startar process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. Delprocess/aktivitet inom process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. Output, processens slutresult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. Input, processens star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. Delprocessen/aktivitetens slutresultat (och nästa delprocess/aktivitets inpu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. Informationssamban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. Informationssyste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. Samband med andra process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. Mätpunk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0F24-D3B5-4FD6-821F-3E9DFE93FA1E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090440" y="87480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3120" cy="41799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lden finns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ej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 elevpärmen utan som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erksamhetens förändringsbehov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 elevpärm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F375-4C37-4C88-A8AA-8DF0BCE95901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90440" y="87480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3120" cy="41799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lden finns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ej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 elevpärmen utan som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erksamhetens förändringsförslag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CD37-845F-43A8-9501-771AFEE31043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1077840" y="863640"/>
            <a:ext cx="4641840" cy="34812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4"/>
          <p:cNvSpPr/>
          <p:nvPr/>
        </p:nvSpPr>
        <p:spPr>
          <a:xfrm>
            <a:off x="0" y="6699240"/>
            <a:ext cx="9144000" cy="15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0" y="6729120"/>
            <a:ext cx="9144000" cy="160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b">
            <a:noAutofit/>
          </a:bodyPr>
          <a:lstStyle>
            <a:lvl1pPr marL="216000" indent="0">
              <a:buNone/>
              <a:tabLst>
                <a:tab algn="l" pos="0"/>
                <a:tab algn="r" pos="9144000"/>
                <a:tab algn="l" pos="10058400"/>
              </a:tabLst>
              <a:defRPr b="1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v-SE" sz="1300" spc="-1" strike="noStrike">
                <a:solidFill>
                  <a:srgbClr val="000000"/>
                </a:solidFill>
                <a:latin typeface="Times New Roman"/>
              </a:rPr>
              <a:t>SVERIGES DOMSTOL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6"/>
          <p:cNvSpPr/>
          <p:nvPr/>
        </p:nvSpPr>
        <p:spPr>
          <a:xfrm>
            <a:off x="-492840" y="6719760"/>
            <a:ext cx="120816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3F05-2C9D-41EB-8B28-F1A8A6504CFD}" type="slidenum">
              <a:rPr b="1" lang="sv-SE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5"/>
          <p:cNvSpPr/>
          <p:nvPr/>
        </p:nvSpPr>
        <p:spPr>
          <a:xfrm>
            <a:off x="0" y="6699240"/>
            <a:ext cx="9144000" cy="15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-492840" y="6719760"/>
            <a:ext cx="120816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9980-35F1-4FDE-A849-38FB8D20945D}" type="slidenum">
              <a:rPr b="1" lang="sv-SE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0" y="6729120"/>
            <a:ext cx="9144000" cy="160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b">
            <a:noAutofit/>
          </a:bodyPr>
          <a:lstStyle>
            <a:lvl1pPr marL="216000" indent="0">
              <a:buNone/>
              <a:tabLst>
                <a:tab algn="l" pos="0"/>
                <a:tab algn="r" pos="9144000"/>
                <a:tab algn="l" pos="10058400"/>
              </a:tabLst>
              <a:defRPr b="1" lang="sv-S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6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99"/>
                </a:solidFill>
                <a:latin typeface="Garamond"/>
              </a:rPr>
              <a:t>Метод аналізу процесів діловодства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Line 2"/>
          <p:cNvSpPr/>
          <p:nvPr/>
        </p:nvSpPr>
        <p:spPr>
          <a:xfrm flipV="1">
            <a:off x="4179960" y="2711520"/>
            <a:ext cx="14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7604280" y="3679920"/>
            <a:ext cx="21564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1114560" y="3649680"/>
            <a:ext cx="2156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2457360" y="3743280"/>
            <a:ext cx="2174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6954840" y="3559320"/>
            <a:ext cx="21744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1684440" y="3565440"/>
            <a:ext cx="2156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Oval 8"/>
          <p:cNvSpPr/>
          <p:nvPr/>
        </p:nvSpPr>
        <p:spPr>
          <a:xfrm>
            <a:off x="3797280" y="4257720"/>
            <a:ext cx="21600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3405240" y="3576600"/>
            <a:ext cx="2174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3903840" y="2519280"/>
            <a:ext cx="21888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Oval 11"/>
          <p:cNvSpPr/>
          <p:nvPr/>
        </p:nvSpPr>
        <p:spPr>
          <a:xfrm>
            <a:off x="5064120" y="2295360"/>
            <a:ext cx="2174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6951600" y="2151000"/>
            <a:ext cx="252360" cy="258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7560720" y="36766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1080360" y="36482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2423520" y="37400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6934320" y="354636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1650240" y="3552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3763440" y="42451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Rectangle 19"/>
          <p:cNvSpPr/>
          <p:nvPr/>
        </p:nvSpPr>
        <p:spPr>
          <a:xfrm>
            <a:off x="3372120" y="357336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3870360" y="25066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5039640" y="22924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Rectangle 22"/>
          <p:cNvSpPr/>
          <p:nvPr/>
        </p:nvSpPr>
        <p:spPr>
          <a:xfrm>
            <a:off x="6894360" y="21337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67" name="Group 23"/>
          <p:cNvGrpSpPr/>
          <p:nvPr/>
        </p:nvGrpSpPr>
        <p:grpSpPr>
          <a:xfrm>
            <a:off x="3706920" y="2781360"/>
            <a:ext cx="931320" cy="360360"/>
            <a:chOff x="3706920" y="2781360"/>
            <a:chExt cx="931320" cy="360360"/>
          </a:xfrm>
        </p:grpSpPr>
        <p:sp>
          <p:nvSpPr>
            <p:cNvPr id="168" name="Rectangle 24"/>
            <p:cNvSpPr/>
            <p:nvPr/>
          </p:nvSpPr>
          <p:spPr>
            <a:xfrm>
              <a:off x="3706920" y="2781360"/>
              <a:ext cx="931320" cy="36036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9" name="Rectangle 25"/>
            <p:cNvSpPr/>
            <p:nvPr/>
          </p:nvSpPr>
          <p:spPr>
            <a:xfrm>
              <a:off x="3800880" y="2834280"/>
              <a:ext cx="743040" cy="25416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70" name="Rectangle 26"/>
          <p:cNvSpPr/>
          <p:nvPr/>
        </p:nvSpPr>
        <p:spPr>
          <a:xfrm>
            <a:off x="3840120" y="2852640"/>
            <a:ext cx="598680" cy="397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IS Handl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Line 27"/>
          <p:cNvSpPr/>
          <p:nvPr/>
        </p:nvSpPr>
        <p:spPr>
          <a:xfrm flipV="1">
            <a:off x="4402080" y="3720960"/>
            <a:ext cx="0" cy="95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3" name="Line 29"/>
          <p:cNvSpPr/>
          <p:nvPr/>
        </p:nvSpPr>
        <p:spPr>
          <a:xfrm>
            <a:off x="1406520" y="3378240"/>
            <a:ext cx="8031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Line 30"/>
          <p:cNvSpPr/>
          <p:nvPr/>
        </p:nvSpPr>
        <p:spPr>
          <a:xfrm>
            <a:off x="3086280" y="3378240"/>
            <a:ext cx="931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Line 31"/>
          <p:cNvSpPr/>
          <p:nvPr/>
        </p:nvSpPr>
        <p:spPr>
          <a:xfrm>
            <a:off x="6696000" y="3375000"/>
            <a:ext cx="800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4924440" y="3378240"/>
            <a:ext cx="852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Oval 33"/>
          <p:cNvSpPr/>
          <p:nvPr/>
        </p:nvSpPr>
        <p:spPr>
          <a:xfrm>
            <a:off x="1084320" y="3197160"/>
            <a:ext cx="336600" cy="336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Rectangle 34"/>
          <p:cNvSpPr/>
          <p:nvPr/>
        </p:nvSpPr>
        <p:spPr>
          <a:xfrm>
            <a:off x="1059480" y="3214800"/>
            <a:ext cx="38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Lev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Oval 35"/>
          <p:cNvSpPr/>
          <p:nvPr/>
        </p:nvSpPr>
        <p:spPr>
          <a:xfrm>
            <a:off x="7499520" y="3197160"/>
            <a:ext cx="338040" cy="336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Rectangle 36"/>
          <p:cNvSpPr/>
          <p:nvPr/>
        </p:nvSpPr>
        <p:spPr>
          <a:xfrm>
            <a:off x="7391160" y="3224160"/>
            <a:ext cx="52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Kund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Oval 37"/>
          <p:cNvSpPr/>
          <p:nvPr/>
        </p:nvSpPr>
        <p:spPr>
          <a:xfrm>
            <a:off x="6878520" y="2533680"/>
            <a:ext cx="398520" cy="430200"/>
          </a:xfrm>
          <a:prstGeom prst="ellipse">
            <a:avLst/>
          </a:prstGeom>
          <a:solidFill>
            <a:srgbClr val="eaec5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Rectangle 38"/>
          <p:cNvSpPr/>
          <p:nvPr/>
        </p:nvSpPr>
        <p:spPr>
          <a:xfrm>
            <a:off x="6947280" y="2506680"/>
            <a:ext cx="2613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Rectangle 39"/>
          <p:cNvSpPr/>
          <p:nvPr/>
        </p:nvSpPr>
        <p:spPr>
          <a:xfrm>
            <a:off x="6977520" y="280980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Rectangle 40"/>
          <p:cNvSpPr/>
          <p:nvPr/>
        </p:nvSpPr>
        <p:spPr>
          <a:xfrm>
            <a:off x="7106760" y="267192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Rectangle 41"/>
          <p:cNvSpPr/>
          <p:nvPr/>
        </p:nvSpPr>
        <p:spPr>
          <a:xfrm>
            <a:off x="6820200" y="267192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Oval 42"/>
          <p:cNvSpPr/>
          <p:nvPr/>
        </p:nvSpPr>
        <p:spPr>
          <a:xfrm>
            <a:off x="7066080" y="2743200"/>
            <a:ext cx="34920" cy="31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Line 43"/>
          <p:cNvSpPr/>
          <p:nvPr/>
        </p:nvSpPr>
        <p:spPr>
          <a:xfrm>
            <a:off x="7083360" y="26416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Line 44"/>
          <p:cNvSpPr/>
          <p:nvPr/>
        </p:nvSpPr>
        <p:spPr>
          <a:xfrm>
            <a:off x="7095960" y="2787480"/>
            <a:ext cx="8280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Line 45"/>
          <p:cNvSpPr/>
          <p:nvPr/>
        </p:nvSpPr>
        <p:spPr>
          <a:xfrm>
            <a:off x="7061040" y="2986200"/>
            <a:ext cx="18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Rectangle 46"/>
          <p:cNvSpPr/>
          <p:nvPr/>
        </p:nvSpPr>
        <p:spPr>
          <a:xfrm>
            <a:off x="1590840" y="3227400"/>
            <a:ext cx="39672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4184640" y="2711520"/>
            <a:ext cx="10065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Oval 48"/>
          <p:cNvSpPr/>
          <p:nvPr/>
        </p:nvSpPr>
        <p:spPr>
          <a:xfrm>
            <a:off x="1616040" y="2502000"/>
            <a:ext cx="398520" cy="430200"/>
          </a:xfrm>
          <a:prstGeom prst="ellipse">
            <a:avLst/>
          </a:prstGeom>
          <a:solidFill>
            <a:srgbClr val="eaec5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Rectangle 49"/>
          <p:cNvSpPr/>
          <p:nvPr/>
        </p:nvSpPr>
        <p:spPr>
          <a:xfrm>
            <a:off x="1684800" y="2475000"/>
            <a:ext cx="2613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Rectangle 50"/>
          <p:cNvSpPr/>
          <p:nvPr/>
        </p:nvSpPr>
        <p:spPr>
          <a:xfrm>
            <a:off x="1715760" y="277812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Rectangle 51"/>
          <p:cNvSpPr/>
          <p:nvPr/>
        </p:nvSpPr>
        <p:spPr>
          <a:xfrm>
            <a:off x="1845000" y="263988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Rectangle 52"/>
          <p:cNvSpPr/>
          <p:nvPr/>
        </p:nvSpPr>
        <p:spPr>
          <a:xfrm>
            <a:off x="1557720" y="263988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Oval 53"/>
          <p:cNvSpPr/>
          <p:nvPr/>
        </p:nvSpPr>
        <p:spPr>
          <a:xfrm>
            <a:off x="1803240" y="2711520"/>
            <a:ext cx="34920" cy="31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Line 54"/>
          <p:cNvSpPr/>
          <p:nvPr/>
        </p:nvSpPr>
        <p:spPr>
          <a:xfrm>
            <a:off x="1820880" y="26100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Line 55"/>
          <p:cNvSpPr/>
          <p:nvPr/>
        </p:nvSpPr>
        <p:spPr>
          <a:xfrm>
            <a:off x="1833480" y="2755800"/>
            <a:ext cx="8280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Line 56"/>
          <p:cNvSpPr/>
          <p:nvPr/>
        </p:nvSpPr>
        <p:spPr>
          <a:xfrm flipH="1">
            <a:off x="1796760" y="2954160"/>
            <a:ext cx="324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01" name="Object 57"/>
          <p:cNvGraphicFramePr/>
          <p:nvPr/>
        </p:nvGraphicFramePr>
        <p:xfrm>
          <a:off x="1692360" y="3068640"/>
          <a:ext cx="146520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068640"/>
                    <a:ext cx="14652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58"/>
          <p:cNvGraphicFramePr/>
          <p:nvPr/>
        </p:nvGraphicFramePr>
        <p:xfrm>
          <a:off x="3941640" y="3044880"/>
          <a:ext cx="10382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5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1640" y="3044880"/>
                    <a:ext cx="10382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59"/>
          <p:cNvGraphicFramePr/>
          <p:nvPr/>
        </p:nvGraphicFramePr>
        <p:xfrm>
          <a:off x="5692680" y="3044880"/>
          <a:ext cx="1035000" cy="70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Object 5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2680" y="3044880"/>
                    <a:ext cx="10350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60"/>
          <p:cNvSpPr/>
          <p:nvPr/>
        </p:nvSpPr>
        <p:spPr>
          <a:xfrm>
            <a:off x="3286080" y="3227400"/>
            <a:ext cx="3952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Rectangle 61"/>
          <p:cNvSpPr/>
          <p:nvPr/>
        </p:nvSpPr>
        <p:spPr>
          <a:xfrm>
            <a:off x="5073480" y="3227400"/>
            <a:ext cx="3952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Rectangle 62"/>
          <p:cNvSpPr/>
          <p:nvPr/>
        </p:nvSpPr>
        <p:spPr>
          <a:xfrm>
            <a:off x="6861240" y="3227400"/>
            <a:ext cx="3952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10" name="Object 63"/>
          <p:cNvGraphicFramePr/>
          <p:nvPr/>
        </p:nvGraphicFramePr>
        <p:xfrm>
          <a:off x="3940200" y="4527720"/>
          <a:ext cx="1046160" cy="7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Object 6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40200" y="4527720"/>
                    <a:ext cx="10461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Line 64"/>
          <p:cNvSpPr/>
          <p:nvPr/>
        </p:nvSpPr>
        <p:spPr>
          <a:xfrm>
            <a:off x="5580000" y="2730600"/>
            <a:ext cx="56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Line 65"/>
          <p:cNvSpPr/>
          <p:nvPr/>
        </p:nvSpPr>
        <p:spPr>
          <a:xfrm>
            <a:off x="6148440" y="27241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Rectangle 66"/>
          <p:cNvSpPr/>
          <p:nvPr/>
        </p:nvSpPr>
        <p:spPr>
          <a:xfrm>
            <a:off x="4202280" y="4046400"/>
            <a:ext cx="396720" cy="27324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Svar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Rectangle 67"/>
          <p:cNvSpPr/>
          <p:nvPr/>
        </p:nvSpPr>
        <p:spPr>
          <a:xfrm>
            <a:off x="5154480" y="2602080"/>
            <a:ext cx="3970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Yttrande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2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8134200" y="2349360"/>
            <a:ext cx="557280" cy="603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6221520" y="2349360"/>
            <a:ext cx="1922400" cy="606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4924440" y="2349360"/>
            <a:ext cx="1433520" cy="603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622680" y="2349360"/>
            <a:ext cx="1308240" cy="6080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127240" y="2349360"/>
            <a:ext cx="1488960" cy="6080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82480" y="2349360"/>
            <a:ext cx="1540080" cy="574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Зміни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573120" y="2349360"/>
            <a:ext cx="8120160" cy="173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Line 10"/>
          <p:cNvSpPr/>
          <p:nvPr/>
        </p:nvSpPr>
        <p:spPr>
          <a:xfrm>
            <a:off x="4924440" y="2379600"/>
            <a:ext cx="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3625920" y="2378160"/>
            <a:ext cx="0" cy="17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2128320" y="2373480"/>
            <a:ext cx="180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4916520" y="2347920"/>
            <a:ext cx="14842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Необхідність в змінах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533520" y="2349360"/>
            <a:ext cx="15951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роблеми</a:t>
            </a:r>
            <a:r>
              <a:rPr b="1" lang="sv-SE" sz="1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Можливості 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2296440" y="2343240"/>
            <a:ext cx="9374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ричини</a:t>
            </a:r>
            <a:r>
              <a:rPr b="1" lang="sv-SE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Наслідки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3686040" y="2344680"/>
            <a:ext cx="11876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Вплив на процеси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6361200" y="2373480"/>
            <a:ext cx="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8137440" y="2367000"/>
            <a:ext cx="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Rectangle 20"/>
          <p:cNvSpPr/>
          <p:nvPr/>
        </p:nvSpPr>
        <p:spPr>
          <a:xfrm>
            <a:off x="6926040" y="2332080"/>
            <a:ext cx="695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Ефек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3308400" y="6453360"/>
            <a:ext cx="292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99cc00"/>
                </a:solidFill>
                <a:latin typeface="Arial"/>
              </a:rPr>
              <a:t>Kap5 – Etapp2 – Inrikta processförändring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2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5091120" y="2381400"/>
            <a:ext cx="2600280" cy="546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887560" y="2381400"/>
            <a:ext cx="2195640" cy="542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984240" y="2381400"/>
            <a:ext cx="1913040" cy="546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Зміни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971640" y="2349360"/>
            <a:ext cx="6715080" cy="25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6391440" y="292428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087880" y="2384280"/>
            <a:ext cx="1800" cy="251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2901960" y="2387520"/>
            <a:ext cx="0" cy="25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1416240" y="2487600"/>
            <a:ext cx="127620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ропозиції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2928960" y="2357280"/>
            <a:ext cx="2071800" cy="641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Очікуваний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ефект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5148360" y="2320920"/>
            <a:ext cx="128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ількість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ьогодні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6299280" y="2327400"/>
            <a:ext cx="153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ількість завтр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982440" y="1773360"/>
            <a:ext cx="461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зробка майбутніх процесів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Висновк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4218120" y="4379760"/>
            <a:ext cx="1665000" cy="876600"/>
          </a:xfrm>
          <a:prstGeom prst="rect">
            <a:avLst/>
          </a:prstGeom>
          <a:solidFill>
            <a:srgbClr val="dfe8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885960" y="4341960"/>
            <a:ext cx="2373120" cy="873000"/>
          </a:xfrm>
          <a:prstGeom prst="rect">
            <a:avLst/>
          </a:prstGeom>
          <a:solidFill>
            <a:srgbClr val="dfe8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826920" y="4317840"/>
            <a:ext cx="7732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Проблеми </a:t>
            </a:r>
            <a:r>
              <a:rPr b="1" lang="sv-SE" sz="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Можливості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Line 7"/>
          <p:cNvSpPr/>
          <p:nvPr/>
        </p:nvSpPr>
        <p:spPr>
          <a:xfrm flipV="1">
            <a:off x="1008000" y="4676400"/>
            <a:ext cx="225108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500120" y="434664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885960" y="4886280"/>
            <a:ext cx="236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885960" y="5064120"/>
            <a:ext cx="236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2100240" y="434196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2616120" y="4346640"/>
            <a:ext cx="0" cy="86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1559520" y="4313160"/>
            <a:ext cx="571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Причини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1714680" y="4500720"/>
            <a:ext cx="102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Вплив на процеси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2688480" y="4316400"/>
            <a:ext cx="1009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Необхідність змін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3473280" y="1751040"/>
            <a:ext cx="965520" cy="90000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Rectangle 18"/>
          <p:cNvSpPr/>
          <p:nvPr/>
        </p:nvSpPr>
        <p:spPr>
          <a:xfrm>
            <a:off x="3757680" y="1722600"/>
            <a:ext cx="176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Rectangle 19"/>
          <p:cNvSpPr/>
          <p:nvPr/>
        </p:nvSpPr>
        <p:spPr>
          <a:xfrm>
            <a:off x="3362400" y="1844640"/>
            <a:ext cx="944640" cy="89208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Rectangle 20"/>
          <p:cNvSpPr/>
          <p:nvPr/>
        </p:nvSpPr>
        <p:spPr>
          <a:xfrm>
            <a:off x="3376440" y="1925640"/>
            <a:ext cx="1020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200" spc="-1" strike="noStrike">
                <a:solidFill>
                  <a:srgbClr val="0030e0"/>
                </a:solidFill>
                <a:latin typeface="Times New Roman"/>
              </a:rPr>
              <a:t>Аналіз (опис) існуючих процесі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Rectangle 21"/>
          <p:cNvSpPr/>
          <p:nvPr/>
        </p:nvSpPr>
        <p:spPr>
          <a:xfrm>
            <a:off x="3929040" y="4572000"/>
            <a:ext cx="96372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Необхідність змін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Line 22"/>
          <p:cNvSpPr/>
          <p:nvPr/>
        </p:nvSpPr>
        <p:spPr>
          <a:xfrm>
            <a:off x="4923000" y="4371840"/>
            <a:ext cx="0" cy="88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Line 23"/>
          <p:cNvSpPr/>
          <p:nvPr/>
        </p:nvSpPr>
        <p:spPr>
          <a:xfrm>
            <a:off x="5408640" y="4376880"/>
            <a:ext cx="0" cy="88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Line 24"/>
          <p:cNvSpPr/>
          <p:nvPr/>
        </p:nvSpPr>
        <p:spPr>
          <a:xfrm>
            <a:off x="4208400" y="4719600"/>
            <a:ext cx="1679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Line 25"/>
          <p:cNvSpPr/>
          <p:nvPr/>
        </p:nvSpPr>
        <p:spPr>
          <a:xfrm>
            <a:off x="4216320" y="4919760"/>
            <a:ext cx="165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Line 26"/>
          <p:cNvSpPr/>
          <p:nvPr/>
        </p:nvSpPr>
        <p:spPr>
          <a:xfrm>
            <a:off x="4216320" y="5097600"/>
            <a:ext cx="1660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Arc 27"/>
          <p:cNvSpPr/>
          <p:nvPr/>
        </p:nvSpPr>
        <p:spPr>
          <a:xfrm>
            <a:off x="2085840" y="3270240"/>
            <a:ext cx="457200" cy="996840"/>
          </a:xfrm>
          <a:custGeom>
            <a:avLst/>
            <a:gdLst>
              <a:gd name="textAreaLeft" fmla="*/ 0 w 457200"/>
              <a:gd name="textAreaRight" fmla="*/ 457560 w 45720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fill="none" w="21600" h="21275">
                <a:moveTo>
                  <a:pt x="3734" y="0"/>
                </a:moveTo>
                <a:cubicBezTo>
                  <a:pt x="14065" y="1813"/>
                  <a:pt x="21600" y="10786"/>
                  <a:pt x="21600" y="21275"/>
                </a:cubicBezTo>
              </a:path>
              <a:path stroke="0" w="21600" h="21275">
                <a:moveTo>
                  <a:pt x="3734" y="0"/>
                </a:moveTo>
                <a:cubicBezTo>
                  <a:pt x="14065" y="1813"/>
                  <a:pt x="21600" y="10786"/>
                  <a:pt x="21600" y="21275"/>
                </a:cubicBezTo>
                <a:lnTo>
                  <a:pt x="0" y="21275"/>
                </a:lnTo>
                <a:lnTo>
                  <a:pt x="3734" y="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Arc 28"/>
          <p:cNvSpPr/>
          <p:nvPr/>
        </p:nvSpPr>
        <p:spPr>
          <a:xfrm rot="19080000">
            <a:off x="3263760" y="4525560"/>
            <a:ext cx="928800" cy="339840"/>
          </a:xfrm>
          <a:custGeom>
            <a:avLst/>
            <a:gdLst>
              <a:gd name="textAreaLeft" fmla="*/ 0 w 928800"/>
              <a:gd name="textAreaRight" fmla="*/ 929160 w 92880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fill="none" w="21658" h="22709">
                <a:moveTo>
                  <a:pt x="0" y="0"/>
                </a:moveTo>
                <a:cubicBezTo>
                  <a:pt x="19" y="0"/>
                  <a:pt x="38" y="-1"/>
                  <a:pt x="58" y="0"/>
                </a:cubicBezTo>
                <a:cubicBezTo>
                  <a:pt x="11987" y="0"/>
                  <a:pt x="21658" y="9670"/>
                  <a:pt x="21658" y="21600"/>
                </a:cubicBezTo>
                <a:cubicBezTo>
                  <a:pt x="21658" y="21969"/>
                  <a:pt x="21648" y="22339"/>
                  <a:pt x="21629" y="22709"/>
                </a:cubicBezTo>
              </a:path>
              <a:path stroke="0" w="21658" h="22709">
                <a:moveTo>
                  <a:pt x="0" y="0"/>
                </a:moveTo>
                <a:cubicBezTo>
                  <a:pt x="19" y="0"/>
                  <a:pt x="38" y="-1"/>
                  <a:pt x="58" y="0"/>
                </a:cubicBezTo>
                <a:cubicBezTo>
                  <a:pt x="11987" y="0"/>
                  <a:pt x="21658" y="9670"/>
                  <a:pt x="21658" y="21600"/>
                </a:cubicBezTo>
                <a:cubicBezTo>
                  <a:pt x="21658" y="21969"/>
                  <a:pt x="21648" y="22339"/>
                  <a:pt x="21629" y="22709"/>
                </a:cubicBezTo>
                <a:lnTo>
                  <a:pt x="58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Arc 29"/>
          <p:cNvSpPr/>
          <p:nvPr/>
        </p:nvSpPr>
        <p:spPr>
          <a:xfrm>
            <a:off x="4791240" y="3409920"/>
            <a:ext cx="695160" cy="819360"/>
          </a:xfrm>
          <a:custGeom>
            <a:avLst/>
            <a:gdLst>
              <a:gd name="textAreaLeft" fmla="*/ 0 w 695160"/>
              <a:gd name="textAreaRight" fmla="*/ 695520 w 69516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fill="none" w="21598" h="21600">
                <a:moveTo>
                  <a:pt x="-1" y="21306"/>
                </a:moveTo>
                <a:cubicBezTo>
                  <a:pt x="160" y="9510"/>
                  <a:pt x="9754" y="25"/>
                  <a:pt x="21552" y="0"/>
                </a:cubicBezTo>
              </a:path>
              <a:path stroke="0" w="21598" h="21600">
                <a:moveTo>
                  <a:pt x="-1" y="21306"/>
                </a:moveTo>
                <a:cubicBezTo>
                  <a:pt x="160" y="9510"/>
                  <a:pt x="9754" y="25"/>
                  <a:pt x="21552" y="0"/>
                </a:cubicBezTo>
                <a:lnTo>
                  <a:pt x="21598" y="21600"/>
                </a:lnTo>
                <a:lnTo>
                  <a:pt x="-1" y="21306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Rectangle 30"/>
          <p:cNvSpPr/>
          <p:nvPr/>
        </p:nvSpPr>
        <p:spPr>
          <a:xfrm>
            <a:off x="7451640" y="4437000"/>
            <a:ext cx="1152720" cy="139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7308720" y="4581360"/>
            <a:ext cx="13478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Звіт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Передумови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Аналіз процесів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Необхідність змін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Управління проектом</a:t>
            </a: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- Проект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Rectangle 32"/>
          <p:cNvSpPr/>
          <p:nvPr/>
        </p:nvSpPr>
        <p:spPr>
          <a:xfrm>
            <a:off x="1943640" y="1871640"/>
            <a:ext cx="76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раз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Rectangle 33"/>
          <p:cNvSpPr/>
          <p:nvPr/>
        </p:nvSpPr>
        <p:spPr>
          <a:xfrm>
            <a:off x="5276160" y="1744560"/>
            <a:ext cx="127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айбутнє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Arc 34"/>
          <p:cNvSpPr/>
          <p:nvPr/>
        </p:nvSpPr>
        <p:spPr>
          <a:xfrm>
            <a:off x="1397160" y="1981080"/>
            <a:ext cx="339480" cy="324000"/>
          </a:xfrm>
          <a:custGeom>
            <a:avLst/>
            <a:gdLst>
              <a:gd name="textAreaLeft" fmla="*/ 0 w 339480"/>
              <a:gd name="textAreaRight" fmla="*/ 339840 w 3394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fill="none" w="21694" h="21600">
                <a:moveTo>
                  <a:pt x="0" y="0"/>
                </a:moveTo>
                <a:cubicBezTo>
                  <a:pt x="31" y="0"/>
                  <a:pt x="62" y="-1"/>
                  <a:pt x="94" y="0"/>
                </a:cubicBezTo>
                <a:cubicBezTo>
                  <a:pt x="12023" y="0"/>
                  <a:pt x="21694" y="9670"/>
                  <a:pt x="21694" y="21600"/>
                </a:cubicBezTo>
              </a:path>
              <a:path stroke="0" w="21694" h="21600">
                <a:moveTo>
                  <a:pt x="0" y="0"/>
                </a:moveTo>
                <a:cubicBezTo>
                  <a:pt x="31" y="0"/>
                  <a:pt x="62" y="-1"/>
                  <a:pt x="94" y="0"/>
                </a:cubicBezTo>
                <a:cubicBezTo>
                  <a:pt x="12023" y="0"/>
                  <a:pt x="21694" y="9670"/>
                  <a:pt x="21694" y="21600"/>
                </a:cubicBezTo>
                <a:lnTo>
                  <a:pt x="94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0030e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Rectangle 35"/>
          <p:cNvSpPr/>
          <p:nvPr/>
        </p:nvSpPr>
        <p:spPr>
          <a:xfrm>
            <a:off x="6788160" y="1671480"/>
            <a:ext cx="1041480" cy="90036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Rectangle 36"/>
          <p:cNvSpPr/>
          <p:nvPr/>
        </p:nvSpPr>
        <p:spPr>
          <a:xfrm>
            <a:off x="6686640" y="1757520"/>
            <a:ext cx="1009440" cy="90000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Rectangle 37"/>
          <p:cNvSpPr/>
          <p:nvPr/>
        </p:nvSpPr>
        <p:spPr>
          <a:xfrm>
            <a:off x="6681960" y="1785960"/>
            <a:ext cx="10332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200" spc="-1" strike="noStrike">
                <a:solidFill>
                  <a:srgbClr val="0030e0"/>
                </a:solidFill>
                <a:latin typeface="Times New Roman"/>
              </a:rPr>
              <a:t>Аналіз (опис)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200" spc="-1" strike="noStrike">
                <a:solidFill>
                  <a:srgbClr val="0030e0"/>
                </a:solidFill>
                <a:latin typeface="Times New Roman"/>
              </a:rPr>
              <a:t>майбутніх процесі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Line 41"/>
          <p:cNvSpPr/>
          <p:nvPr/>
        </p:nvSpPr>
        <p:spPr>
          <a:xfrm>
            <a:off x="768240" y="5019840"/>
            <a:ext cx="236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Line 42"/>
          <p:cNvSpPr/>
          <p:nvPr/>
        </p:nvSpPr>
        <p:spPr>
          <a:xfrm>
            <a:off x="1392120" y="468000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Line 43"/>
          <p:cNvSpPr/>
          <p:nvPr/>
        </p:nvSpPr>
        <p:spPr>
          <a:xfrm>
            <a:off x="774720" y="5219640"/>
            <a:ext cx="236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Line 44"/>
          <p:cNvSpPr/>
          <p:nvPr/>
        </p:nvSpPr>
        <p:spPr>
          <a:xfrm>
            <a:off x="774720" y="5397480"/>
            <a:ext cx="2373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Line 45"/>
          <p:cNvSpPr/>
          <p:nvPr/>
        </p:nvSpPr>
        <p:spPr>
          <a:xfrm>
            <a:off x="1990800" y="467532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Line 46"/>
          <p:cNvSpPr/>
          <p:nvPr/>
        </p:nvSpPr>
        <p:spPr>
          <a:xfrm>
            <a:off x="2505240" y="4680000"/>
            <a:ext cx="0" cy="86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Rectangle 50"/>
          <p:cNvSpPr/>
          <p:nvPr/>
        </p:nvSpPr>
        <p:spPr>
          <a:xfrm>
            <a:off x="4937040" y="4424400"/>
            <a:ext cx="50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Ефект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Rectangle 51"/>
          <p:cNvSpPr/>
          <p:nvPr/>
        </p:nvSpPr>
        <p:spPr>
          <a:xfrm>
            <a:off x="5353560" y="4424400"/>
            <a:ext cx="722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Пріоритети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93" name="Object 60"/>
          <p:cNvGraphicFramePr/>
          <p:nvPr/>
        </p:nvGraphicFramePr>
        <p:xfrm>
          <a:off x="4600440" y="2238480"/>
          <a:ext cx="19623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0440" y="2238480"/>
                    <a:ext cx="1962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Group 61"/>
          <p:cNvGrpSpPr/>
          <p:nvPr/>
        </p:nvGrpSpPr>
        <p:grpSpPr>
          <a:xfrm>
            <a:off x="467640" y="1197000"/>
            <a:ext cx="1673640" cy="743040"/>
            <a:chOff x="467640" y="1197000"/>
            <a:chExt cx="1673640" cy="743040"/>
          </a:xfrm>
        </p:grpSpPr>
        <p:sp>
          <p:nvSpPr>
            <p:cNvPr id="296" name="Line 62"/>
            <p:cNvSpPr/>
            <p:nvPr/>
          </p:nvSpPr>
          <p:spPr>
            <a:xfrm>
              <a:off x="1428840" y="1851120"/>
              <a:ext cx="8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97" name="Oval 63"/>
            <p:cNvSpPr/>
            <p:nvPr/>
          </p:nvSpPr>
          <p:spPr>
            <a:xfrm>
              <a:off x="981360" y="1473120"/>
              <a:ext cx="369720" cy="311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98" name="AutoShape 64"/>
            <p:cNvSpPr/>
            <p:nvPr/>
          </p:nvSpPr>
          <p:spPr>
            <a:xfrm>
              <a:off x="941760" y="1419120"/>
              <a:ext cx="99720" cy="30240"/>
            </a:xfrm>
            <a:prstGeom prst="parallelogram">
              <a:avLst>
                <a:gd name="adj" fmla="val 8242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sv-SE" sz="300" spc="-1" strike="noStrike">
                  <a:solidFill>
                    <a:srgbClr val="808080"/>
                  </a:solidFill>
                  <a:latin typeface="Arial"/>
                </a:rPr>
                <a:t>info</a:t>
              </a:r>
              <a:endParaRPr b="0" lang="en-US" sz="3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99" name="AutoShape 65"/>
            <p:cNvSpPr/>
            <p:nvPr/>
          </p:nvSpPr>
          <p:spPr>
            <a:xfrm>
              <a:off x="1248480" y="1602000"/>
              <a:ext cx="99720" cy="29880"/>
            </a:xfrm>
            <a:prstGeom prst="parallelogram">
              <a:avLst>
                <a:gd name="adj" fmla="val 834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-4680" bIns="-4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sv-SE" sz="300" spc="-1" strike="noStrike">
                  <a:solidFill>
                    <a:srgbClr val="808080"/>
                  </a:solidFill>
                  <a:latin typeface="Arial"/>
                </a:rPr>
                <a:t>info</a:t>
              </a:r>
              <a:endParaRPr b="0" lang="en-US" sz="3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0" name="AutoShape 66"/>
            <p:cNvSpPr/>
            <p:nvPr/>
          </p:nvSpPr>
          <p:spPr>
            <a:xfrm>
              <a:off x="1510920" y="1833480"/>
              <a:ext cx="98280" cy="32040"/>
            </a:xfrm>
            <a:prstGeom prst="parallelogram">
              <a:avLst>
                <a:gd name="adj" fmla="val 7667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-3240" bIns="-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sv-SE" sz="300" spc="-1" strike="noStrike">
                  <a:solidFill>
                    <a:srgbClr val="808080"/>
                  </a:solidFill>
                  <a:latin typeface="Arial"/>
                </a:rPr>
                <a:t>info</a:t>
              </a:r>
              <a:endParaRPr b="0" lang="en-US" sz="3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1" name="Line 67"/>
            <p:cNvSpPr/>
            <p:nvPr/>
          </p:nvSpPr>
          <p:spPr>
            <a:xfrm flipV="1">
              <a:off x="990360" y="14558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2" name="Line 68"/>
            <p:cNvSpPr/>
            <p:nvPr/>
          </p:nvSpPr>
          <p:spPr>
            <a:xfrm flipV="1">
              <a:off x="993240" y="136332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3" name="Line 69"/>
            <p:cNvSpPr/>
            <p:nvPr/>
          </p:nvSpPr>
          <p:spPr>
            <a:xfrm>
              <a:off x="1343880" y="1612800"/>
              <a:ext cx="1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4" name="Line 70"/>
            <p:cNvSpPr/>
            <p:nvPr/>
          </p:nvSpPr>
          <p:spPr>
            <a:xfrm flipH="1" flipV="1">
              <a:off x="1562040" y="1690560"/>
              <a:ext cx="2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pSp>
          <p:nvGrpSpPr>
            <p:cNvPr id="305" name="Group 71"/>
            <p:cNvGrpSpPr/>
            <p:nvPr/>
          </p:nvGrpSpPr>
          <p:grpSpPr>
            <a:xfrm>
              <a:off x="467640" y="1500120"/>
              <a:ext cx="331200" cy="229320"/>
              <a:chOff x="467640" y="1500120"/>
              <a:chExt cx="331200" cy="229320"/>
            </a:xfrm>
          </p:grpSpPr>
          <p:graphicFrame>
            <p:nvGraphicFramePr>
              <p:cNvPr id="306" name="Object 72"/>
              <p:cNvGraphicFramePr/>
              <p:nvPr/>
            </p:nvGraphicFramePr>
            <p:xfrm>
              <a:off x="485640" y="1508040"/>
              <a:ext cx="263880" cy="214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07" name="Object 7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5640" y="1508040"/>
                        <a:ext cx="263880" cy="214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8" name="Rectangle 73"/>
              <p:cNvSpPr/>
              <p:nvPr/>
            </p:nvSpPr>
            <p:spPr>
              <a:xfrm>
                <a:off x="467640" y="1500120"/>
                <a:ext cx="33120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LEV/</a:t>
                </a:r>
                <a:endParaRPr b="0" lang="en-US" sz="400" spc="-1" strike="noStrike">
                  <a:solidFill>
                    <a:srgbClr val="ffffff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KUND</a:t>
                </a:r>
                <a:endParaRPr b="0" lang="en-US" sz="4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sp>
          <p:nvSpPr>
            <p:cNvPr id="309" name="Line 74"/>
            <p:cNvSpPr/>
            <p:nvPr/>
          </p:nvSpPr>
          <p:spPr>
            <a:xfrm>
              <a:off x="738000" y="1606680"/>
              <a:ext cx="16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pSp>
          <p:nvGrpSpPr>
            <p:cNvPr id="310" name="Group 75"/>
            <p:cNvGrpSpPr/>
            <p:nvPr/>
          </p:nvGrpSpPr>
          <p:grpSpPr>
            <a:xfrm>
              <a:off x="1785240" y="1500120"/>
              <a:ext cx="356040" cy="200160"/>
              <a:chOff x="1785240" y="1500120"/>
              <a:chExt cx="356040" cy="200160"/>
            </a:xfrm>
          </p:grpSpPr>
          <p:graphicFrame>
            <p:nvGraphicFramePr>
              <p:cNvPr id="311" name="Object 76"/>
              <p:cNvGraphicFramePr/>
              <p:nvPr/>
            </p:nvGraphicFramePr>
            <p:xfrm>
              <a:off x="1785240" y="1500120"/>
              <a:ext cx="250560" cy="2001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12" name="Object 7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85240" y="1500120"/>
                        <a:ext cx="250560" cy="200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3" name="Rectangle 77"/>
              <p:cNvSpPr/>
              <p:nvPr/>
            </p:nvSpPr>
            <p:spPr>
              <a:xfrm>
                <a:off x="1797840" y="1525680"/>
                <a:ext cx="34344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KUND</a:t>
                </a:r>
                <a:endParaRPr b="0" lang="en-US" sz="4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aphicFrame>
          <p:nvGraphicFramePr>
            <p:cNvPr id="314" name="Object 78"/>
            <p:cNvGraphicFramePr/>
            <p:nvPr/>
          </p:nvGraphicFramePr>
          <p:xfrm>
            <a:off x="829080" y="1197000"/>
            <a:ext cx="344520" cy="176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5" name="Object 7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29080" y="1197000"/>
                      <a:ext cx="34452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Object 79"/>
            <p:cNvGraphicFramePr/>
            <p:nvPr/>
          </p:nvGraphicFramePr>
          <p:xfrm>
            <a:off x="843840" y="1522440"/>
            <a:ext cx="347400" cy="171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7" name="Object 7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3840" y="1522440"/>
                      <a:ext cx="347400" cy="17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8" name="Object 80"/>
            <p:cNvGraphicFramePr/>
            <p:nvPr/>
          </p:nvGraphicFramePr>
          <p:xfrm>
            <a:off x="1409760" y="1522440"/>
            <a:ext cx="343080" cy="171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9" name="Object 8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409760" y="1522440"/>
                      <a:ext cx="343080" cy="17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0" name="Line 81"/>
            <p:cNvSpPr/>
            <p:nvPr/>
          </p:nvSpPr>
          <p:spPr>
            <a:xfrm>
              <a:off x="1182240" y="1614600"/>
              <a:ext cx="7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aphicFrame>
          <p:nvGraphicFramePr>
            <p:cNvPr id="321" name="Object 82"/>
            <p:cNvGraphicFramePr/>
            <p:nvPr/>
          </p:nvGraphicFramePr>
          <p:xfrm>
            <a:off x="1088640" y="1763640"/>
            <a:ext cx="350280" cy="176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2" name="Object 8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88640" y="1763640"/>
                      <a:ext cx="35028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3" name="Line 83"/>
            <p:cNvSpPr/>
            <p:nvPr/>
          </p:nvSpPr>
          <p:spPr>
            <a:xfrm>
              <a:off x="1747080" y="160992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aphicFrame>
        <p:nvGraphicFramePr>
          <p:cNvPr id="324" name="Object 84"/>
          <p:cNvGraphicFramePr/>
          <p:nvPr/>
        </p:nvGraphicFramePr>
        <p:xfrm>
          <a:off x="1344600" y="2340000"/>
          <a:ext cx="1819440" cy="765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5" name="Object 8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44600" y="2340000"/>
                    <a:ext cx="181944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Дата 2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Garamond"/>
              </a:rPr>
              <a:t>Регистрация и распределение уголовного дела</a:t>
            </a:r>
            <a:endParaRPr b="1" lang="en-US" sz="2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8" name="Oval 3"/>
          <p:cNvSpPr/>
          <p:nvPr/>
        </p:nvSpPr>
        <p:spPr>
          <a:xfrm>
            <a:off x="684360" y="1989000"/>
            <a:ext cx="142560" cy="1447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79280" y="2133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Дело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187280" y="1557360"/>
            <a:ext cx="136872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пециалис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егистрируе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ело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826920" y="20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2627280" y="1557360"/>
            <a:ext cx="1368360" cy="93492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Запись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журнал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AutoShape 8"/>
          <p:cNvSpPr/>
          <p:nvPr/>
        </p:nvSpPr>
        <p:spPr>
          <a:xfrm>
            <a:off x="108000" y="3860640"/>
            <a:ext cx="1224000" cy="1008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Специалист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ередает дело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консультанту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AutoShape 9"/>
          <p:cNvSpPr/>
          <p:nvPr/>
        </p:nvSpPr>
        <p:spPr>
          <a:xfrm>
            <a:off x="108000" y="5229360"/>
            <a:ext cx="1224000" cy="107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онсультант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заносит дело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АИС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AutoShape 10"/>
          <p:cNvSpPr/>
          <p:nvPr/>
        </p:nvSpPr>
        <p:spPr>
          <a:xfrm>
            <a:off x="1403280" y="3860640"/>
            <a:ext cx="1297080" cy="1008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ополнени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базы данных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АИС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AutoShape 11"/>
          <p:cNvSpPr/>
          <p:nvPr/>
        </p:nvSpPr>
        <p:spPr>
          <a:xfrm>
            <a:off x="2771640" y="3860640"/>
            <a:ext cx="1368720" cy="1008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Консультант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ередает дело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омощнику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редседател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AutoShape 12"/>
          <p:cNvSpPr/>
          <p:nvPr/>
        </p:nvSpPr>
        <p:spPr>
          <a:xfrm>
            <a:off x="2771640" y="5229360"/>
            <a:ext cx="1368720" cy="107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омощник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редседателя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азыгрывае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жребий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AutoShape 13"/>
          <p:cNvSpPr/>
          <p:nvPr/>
        </p:nvSpPr>
        <p:spPr>
          <a:xfrm>
            <a:off x="4284720" y="3860640"/>
            <a:ext cx="1366920" cy="1008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Имя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исполнителя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AutoShape 14"/>
          <p:cNvSpPr/>
          <p:nvPr/>
        </p:nvSpPr>
        <p:spPr>
          <a:xfrm>
            <a:off x="5796000" y="3860640"/>
            <a:ext cx="1584360" cy="1513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омощник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редседателя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егистрируе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ело в журнал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жеребьевки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AutoShape 15"/>
          <p:cNvSpPr/>
          <p:nvPr/>
        </p:nvSpPr>
        <p:spPr>
          <a:xfrm>
            <a:off x="7524720" y="3860640"/>
            <a:ext cx="1511280" cy="1008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Запись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журнал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Oval 16"/>
          <p:cNvSpPr/>
          <p:nvPr/>
        </p:nvSpPr>
        <p:spPr>
          <a:xfrm>
            <a:off x="1116000" y="134136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1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Oval 17"/>
          <p:cNvSpPr/>
          <p:nvPr/>
        </p:nvSpPr>
        <p:spPr>
          <a:xfrm>
            <a:off x="2627280" y="1413000"/>
            <a:ext cx="360360" cy="358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1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Oval 18"/>
          <p:cNvSpPr/>
          <p:nvPr/>
        </p:nvSpPr>
        <p:spPr>
          <a:xfrm>
            <a:off x="0" y="3645000"/>
            <a:ext cx="36036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4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Oval 19"/>
          <p:cNvSpPr/>
          <p:nvPr/>
        </p:nvSpPr>
        <p:spPr>
          <a:xfrm>
            <a:off x="0" y="501336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5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1332000" y="3716280"/>
            <a:ext cx="360360" cy="358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3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Oval 21"/>
          <p:cNvSpPr/>
          <p:nvPr/>
        </p:nvSpPr>
        <p:spPr>
          <a:xfrm>
            <a:off x="2700360" y="3716280"/>
            <a:ext cx="35892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6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Oval 22"/>
          <p:cNvSpPr/>
          <p:nvPr/>
        </p:nvSpPr>
        <p:spPr>
          <a:xfrm>
            <a:off x="4284720" y="3716280"/>
            <a:ext cx="360360" cy="358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4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Oval 23"/>
          <p:cNvSpPr/>
          <p:nvPr/>
        </p:nvSpPr>
        <p:spPr>
          <a:xfrm>
            <a:off x="2556000" y="508464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7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Oval 24"/>
          <p:cNvSpPr/>
          <p:nvPr/>
        </p:nvSpPr>
        <p:spPr>
          <a:xfrm>
            <a:off x="5651640" y="371628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8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Oval 25"/>
          <p:cNvSpPr/>
          <p:nvPr/>
        </p:nvSpPr>
        <p:spPr>
          <a:xfrm>
            <a:off x="7451640" y="3645000"/>
            <a:ext cx="360360" cy="358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5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51" name="Picture 26" descr="j0234131"/>
          <p:cNvPicPr/>
          <p:nvPr/>
        </p:nvPicPr>
        <p:blipFill>
          <a:blip r:embed="rId1"/>
          <a:stretch/>
        </p:blipFill>
        <p:spPr>
          <a:xfrm>
            <a:off x="684360" y="1484280"/>
            <a:ext cx="504720" cy="432000"/>
          </a:xfrm>
          <a:prstGeom prst="rect">
            <a:avLst/>
          </a:prstGeom>
          <a:ln w="0">
            <a:noFill/>
          </a:ln>
        </p:spPr>
      </p:pic>
      <p:sp>
        <p:nvSpPr>
          <p:cNvPr id="352" name="AutoShape 27"/>
          <p:cNvSpPr/>
          <p:nvPr/>
        </p:nvSpPr>
        <p:spPr>
          <a:xfrm>
            <a:off x="4140360" y="1557360"/>
            <a:ext cx="1368360" cy="93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пециалис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передае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дело 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екретарю суда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AutoShape 28"/>
          <p:cNvSpPr/>
          <p:nvPr/>
        </p:nvSpPr>
        <p:spPr>
          <a:xfrm>
            <a:off x="4140360" y="2637000"/>
            <a:ext cx="1368360" cy="93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екретарь суда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заводи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таткарточку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AutoShape 29"/>
          <p:cNvSpPr/>
          <p:nvPr/>
        </p:nvSpPr>
        <p:spPr>
          <a:xfrm>
            <a:off x="5651640" y="1557360"/>
            <a:ext cx="1368360" cy="93492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таткарточк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а дело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Oval 30"/>
          <p:cNvSpPr/>
          <p:nvPr/>
        </p:nvSpPr>
        <p:spPr>
          <a:xfrm>
            <a:off x="4067280" y="134136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2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Oval 31"/>
          <p:cNvSpPr/>
          <p:nvPr/>
        </p:nvSpPr>
        <p:spPr>
          <a:xfrm>
            <a:off x="4067280" y="249228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3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Oval 32"/>
          <p:cNvSpPr/>
          <p:nvPr/>
        </p:nvSpPr>
        <p:spPr>
          <a:xfrm>
            <a:off x="5651640" y="1413000"/>
            <a:ext cx="360360" cy="358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2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Line 33"/>
          <p:cNvSpPr/>
          <p:nvPr/>
        </p:nvSpPr>
        <p:spPr>
          <a:xfrm>
            <a:off x="2556000" y="2060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Line 34"/>
          <p:cNvSpPr/>
          <p:nvPr/>
        </p:nvSpPr>
        <p:spPr>
          <a:xfrm>
            <a:off x="3995640" y="20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Line 35"/>
          <p:cNvSpPr/>
          <p:nvPr/>
        </p:nvSpPr>
        <p:spPr>
          <a:xfrm>
            <a:off x="485928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cxnSp>
        <p:nvCxnSpPr>
          <p:cNvPr id="361" name="AutoShape 36"/>
          <p:cNvCxnSpPr>
            <a:stCxn id="353" idx="3"/>
            <a:endCxn id="354" idx="2"/>
          </p:cNvCxnSpPr>
          <p:nvPr/>
        </p:nvCxnSpPr>
        <p:spPr>
          <a:xfrm flipV="1">
            <a:off x="5508360" y="2491920"/>
            <a:ext cx="827640" cy="61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Line 37"/>
          <p:cNvSpPr/>
          <p:nvPr/>
        </p:nvSpPr>
        <p:spPr>
          <a:xfrm>
            <a:off x="6804000" y="2492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Line 38"/>
          <p:cNvSpPr/>
          <p:nvPr/>
        </p:nvSpPr>
        <p:spPr>
          <a:xfrm flipH="1">
            <a:off x="539280" y="364500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Line 39"/>
          <p:cNvSpPr/>
          <p:nvPr/>
        </p:nvSpPr>
        <p:spPr>
          <a:xfrm>
            <a:off x="53964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Line 40"/>
          <p:cNvSpPr/>
          <p:nvPr/>
        </p:nvSpPr>
        <p:spPr>
          <a:xfrm>
            <a:off x="61128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cxnSp>
        <p:nvCxnSpPr>
          <p:cNvPr id="366" name="AutoShape 41"/>
          <p:cNvCxnSpPr>
            <a:stCxn id="334" idx="3"/>
            <a:endCxn id="335" idx="2"/>
          </p:cNvCxnSpPr>
          <p:nvPr/>
        </p:nvCxnSpPr>
        <p:spPr>
          <a:xfrm flipV="1">
            <a:off x="1332000" y="4868640"/>
            <a:ext cx="721440" cy="90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Line 42"/>
          <p:cNvSpPr/>
          <p:nvPr/>
        </p:nvSpPr>
        <p:spPr>
          <a:xfrm>
            <a:off x="2700360" y="4365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Line 43"/>
          <p:cNvSpPr/>
          <p:nvPr/>
        </p:nvSpPr>
        <p:spPr>
          <a:xfrm>
            <a:off x="349236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cxnSp>
        <p:nvCxnSpPr>
          <p:cNvPr id="369" name="AutoShape 44"/>
          <p:cNvCxnSpPr>
            <a:stCxn id="337" idx="3"/>
            <a:endCxn id="338" idx="2"/>
          </p:cNvCxnSpPr>
          <p:nvPr/>
        </p:nvCxnSpPr>
        <p:spPr>
          <a:xfrm flipV="1">
            <a:off x="4140000" y="4868640"/>
            <a:ext cx="829080" cy="90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Line 45"/>
          <p:cNvSpPr/>
          <p:nvPr/>
        </p:nvSpPr>
        <p:spPr>
          <a:xfrm>
            <a:off x="565164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1" name="Line 46"/>
          <p:cNvSpPr/>
          <p:nvPr/>
        </p:nvSpPr>
        <p:spPr>
          <a:xfrm>
            <a:off x="738036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Line 47"/>
          <p:cNvSpPr/>
          <p:nvPr/>
        </p:nvSpPr>
        <p:spPr>
          <a:xfrm>
            <a:off x="9036000" y="436572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Досвід Росії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Делегування повноважень Голови Суду, Заступників та Суддів апарату суд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удді сфокусовані на процесі судочинства, а не на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овсякденних задачах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Увага приділяється місцевому рівню, удосконаленню процесів діловодства та розвитку особистості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більшується доступність суду для громадян без перешкод для роботи суд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прощення процесу  подання документів та сплати судових витрат.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рийом громадян здійснює помічник судді, а не суддя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меншення кількості скарг від відвідувачів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Доступ до Інтернет ресурсів з судовими рішенням та корисною інформацією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більшення кількості професійних публікацій в ЗМІ щодо судових рішен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меншення страху щодо процесу делегування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впровадження посібників та навчання персоналу.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Різні завдання виконуються по-різному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рофесійні навички та потенціал апарату суду стає пріоритетом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br>
              <a:rPr sz="1800"/>
            </a:b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571680" y="142884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7" name="Picture 4" descr="DSC_0016"/>
          <p:cNvPicPr/>
          <p:nvPr/>
        </p:nvPicPr>
        <p:blipFill>
          <a:blip r:embed="rId1"/>
          <a:stretch/>
        </p:blipFill>
        <p:spPr>
          <a:xfrm>
            <a:off x="-11160" y="380880"/>
            <a:ext cx="9167760" cy="609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0" name="Picture 4" descr="DSC_0018"/>
          <p:cNvPicPr/>
          <p:nvPr/>
        </p:nvPicPr>
        <p:blipFill>
          <a:blip r:embed="rId1"/>
          <a:stretch/>
        </p:blipFill>
        <p:spPr>
          <a:xfrm>
            <a:off x="-11160" y="380880"/>
            <a:ext cx="9167760" cy="609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Garamond"/>
              </a:rPr>
              <a:t>Суддя не повинен бачити справу раніше ніж день засідання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684360" y="1413000"/>
            <a:ext cx="1191960" cy="939600"/>
          </a:xfrm>
          <a:prstGeom prst="rightArrow">
            <a:avLst>
              <a:gd name="adj1" fmla="val 50000"/>
              <a:gd name="adj2" fmla="val 3171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Реєстрація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1908000" y="1413000"/>
            <a:ext cx="1206720" cy="939600"/>
          </a:xfrm>
          <a:prstGeom prst="rightArrow">
            <a:avLst>
              <a:gd name="adj1" fmla="val 50000"/>
              <a:gd name="adj2" fmla="val 321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Розподіл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спра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3122640" y="1438200"/>
            <a:ext cx="1206360" cy="939960"/>
          </a:xfrm>
          <a:prstGeom prst="rightArrow">
            <a:avLst>
              <a:gd name="adj1" fmla="val 50000"/>
              <a:gd name="adj2" fmla="val 3208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ідготовка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до слухання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4481640" y="1403280"/>
            <a:ext cx="1206360" cy="939960"/>
          </a:xfrm>
          <a:prstGeom prst="rightArrow">
            <a:avLst>
              <a:gd name="adj1" fmla="val 50000"/>
              <a:gd name="adj2" fmla="val 3208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Засідання/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Слухання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справи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5688000" y="1395360"/>
            <a:ext cx="1206360" cy="939960"/>
          </a:xfrm>
          <a:prstGeom prst="rightArrow">
            <a:avLst>
              <a:gd name="adj1" fmla="val 50000"/>
              <a:gd name="adj2" fmla="val 3208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рийняття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рішення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6932520" y="1409760"/>
            <a:ext cx="1206720" cy="939600"/>
          </a:xfrm>
          <a:prstGeom prst="rightArrow">
            <a:avLst>
              <a:gd name="adj1" fmla="val 50000"/>
              <a:gd name="adj2" fmla="val 3210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одальший рух</a:t>
            </a:r>
            <a:r>
              <a:rPr b="1" lang="sv-SE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архі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4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Garamond"/>
              </a:rPr>
              <a:t>Процеси діловодства в суді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24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Основні процес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06440" y="1981080"/>
            <a:ext cx="6230880" cy="762120"/>
          </a:xfrm>
          <a:prstGeom prst="rightArrow">
            <a:avLst>
              <a:gd name="adj1" fmla="val 50000"/>
              <a:gd name="adj2" fmla="val 20477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підготовк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406440" y="2971800"/>
            <a:ext cx="6230880" cy="762120"/>
          </a:xfrm>
          <a:prstGeom prst="rightArrow">
            <a:avLst>
              <a:gd name="adj1" fmla="val 50000"/>
              <a:gd name="adj2" fmla="val 20477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 розподілу спра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406440" y="3962520"/>
            <a:ext cx="6230880" cy="761760"/>
          </a:xfrm>
          <a:prstGeom prst="rightArrow">
            <a:avLst>
              <a:gd name="adj1" fmla="val 50000"/>
              <a:gd name="adj2" fmla="val 20486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експедиції/  Процес здачі в архі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06440" y="5105520"/>
            <a:ext cx="6230880" cy="761760"/>
          </a:xfrm>
          <a:prstGeom prst="rightArrow">
            <a:avLst>
              <a:gd name="adj1" fmla="val 50000"/>
              <a:gd name="adj2" fmla="val 20486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зовнішнього інформуванн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96000" y="490680"/>
            <a:ext cx="21607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6084720" y="1197000"/>
            <a:ext cx="2880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Для кого</a:t>
            </a:r>
            <a:r>
              <a:rPr b="1" lang="sv-SE" sz="1800" spc="-1" strike="noStrike">
                <a:solidFill>
                  <a:srgbClr val="000000"/>
                </a:solidFill>
                <a:latin typeface="Trebuchet MS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зацікавлена       особ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(стейкхолдер)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Під-процеси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4140360" y="1125360"/>
            <a:ext cx="5003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uk-UA" sz="2000" spc="-1" strike="noStrike">
                <a:solidFill>
                  <a:srgbClr val="ff3300"/>
                </a:solidFill>
                <a:latin typeface="Arial"/>
              </a:rPr>
              <a:t>Внутрішній стейкхолдер</a:t>
            </a:r>
            <a:r>
              <a:rPr b="1" lang="sv-SE" sz="2000" spc="-1" strike="noStrike">
                <a:solidFill>
                  <a:srgbClr val="000000"/>
                </a:solidFill>
                <a:latin typeface="Trebuchet MS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rebuchet MS"/>
              </a:rPr>
              <a:t>                  </a:t>
            </a:r>
            <a:r>
              <a:rPr b="1" lang="sv-SE" sz="20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uk-UA" sz="2000" spc="-1" strike="noStrike">
                <a:solidFill>
                  <a:srgbClr val="000000"/>
                </a:solidFill>
                <a:latin typeface="Trebuchet MS"/>
              </a:rPr>
              <a:t>Клієнт</a:t>
            </a:r>
            <a:r>
              <a:rPr b="1" lang="sv-SE" sz="20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6929280" y="2193840"/>
            <a:ext cx="1909800" cy="349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Д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ова     адміністраці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          СУСПІЛЬСТВО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406440" y="1981080"/>
            <a:ext cx="7045200" cy="762120"/>
          </a:xfrm>
          <a:prstGeom prst="rightArrow">
            <a:avLst>
              <a:gd name="adj1" fmla="val 50000"/>
              <a:gd name="adj2" fmla="val 23153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еєстрація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діл справ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лануванн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406440" y="2971800"/>
            <a:ext cx="7072200" cy="762120"/>
          </a:xfrm>
          <a:prstGeom prst="rightArrow">
            <a:avLst>
              <a:gd name="adj1" fmla="val 50000"/>
              <a:gd name="adj2" fmla="val 23242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оповідь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лухання справи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удове засідання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ідтримка судді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AutoShape 14"/>
          <p:cNvSpPr/>
          <p:nvPr/>
        </p:nvSpPr>
        <p:spPr>
          <a:xfrm>
            <a:off x="428760" y="4000680"/>
            <a:ext cx="6786360" cy="761760"/>
          </a:xfrm>
          <a:prstGeom prst="rightArrow">
            <a:avLst>
              <a:gd name="adj1" fmla="val 50000"/>
              <a:gd name="adj2" fmla="val 232536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и адміністрування (управління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406440" y="4876920"/>
            <a:ext cx="7072200" cy="761760"/>
          </a:xfrm>
          <a:prstGeom prst="rightArrow">
            <a:avLst>
              <a:gd name="adj1" fmla="val 50000"/>
              <a:gd name="adj2" fmla="val 23253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світа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4389480" cy="4263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773280" y="1000080"/>
            <a:ext cx="3798720" cy="486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Кожен процес можна розділити на основні процеси та під-процес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Завжди прочинайте з основних процесів щоб отримати повну картину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Аналізуйте процеси зверху-вниз (від основних процесів до під-процесів та складових компонентів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Певна кількість пов'язаних  дій з чітким визначенням початку та кінця  і є процес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Аналіз процесу - це розподіл його на під-процеси та компонент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268280"/>
          <a:ext cx="8362800" cy="4525920"/>
        </p:xfrm>
        <a:graphic>
          <a:graphicData uri="http://schemas.openxmlformats.org/drawingml/2006/table">
            <a:tbl>
              <a:tblPr/>
              <a:tblGrid>
                <a:gridCol w="1378080"/>
                <a:gridCol w="1224000"/>
                <a:gridCol w="3348000"/>
                <a:gridCol w="1141200"/>
                <a:gridCol w="1271520"/>
              </a:tblGrid>
              <a:tr h="596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стачальник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зив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хідні дані</a:t>
                      </a:r>
                      <a:r>
                        <a:rPr b="1" lang="sv-SE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/</a:t>
                      </a:r>
                      <a:br>
                        <a:rPr sz="1000"/>
                      </a:b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пра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це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ихідні дані</a:t>
                      </a:r>
                      <a:r>
                        <a:rPr b="1" lang="sv-SE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/</a:t>
                      </a:r>
                      <a:br>
                        <a:rPr sz="1000"/>
                      </a:b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ішення суд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лієнт</a:t>
                      </a:r>
                      <a:r>
                        <a:rPr b="1" lang="sv-SE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/</a:t>
                      </a:r>
                      <a:br>
                        <a:rPr sz="1000"/>
                      </a:b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римув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904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0080" y="476280"/>
            <a:ext cx="815004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42920" y="1988640"/>
            <a:ext cx="208764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Лист для перевірк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826920" y="2492280"/>
          <a:ext cx="1719360" cy="26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92280"/>
                    <a:ext cx="171936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6"/>
          <p:cNvSpPr/>
          <p:nvPr/>
        </p:nvSpPr>
        <p:spPr>
          <a:xfrm>
            <a:off x="2771640" y="3933720"/>
            <a:ext cx="3961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Невеличка робоча група (4-10 осіб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627280" y="2924280"/>
            <a:ext cx="49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Обладнання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фліп-чарт, бумаг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олівці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771640" y="342900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Приміщення ( зал, кабінет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2771640" y="429264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В робочій групі повинні бути представники всіх залучених до процесу підрозділі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2771640" y="4941720"/>
            <a:ext cx="60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Співпраця з  керівникам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19:44Z</dcterms:modified>
  <cp:revision>397</cp:revision>
  <dc:subject/>
  <dc:title>Sveriges Domstolar</dc:title>
</cp:coreProperties>
</file>