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DE4C-1B18-4F3B-B37D-194EF2D01A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41F-8F2D-4052-92C6-63A4B99FF3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A2D-18F5-4740-A6AD-DE5BF9A929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DD2-01C6-4F5F-96EF-686028ACF8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432-F056-4EA5-82A4-BC7DC23A8B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5DDC-0BAC-4B4B-BE34-A96C294DC3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4FDC-4860-4D2D-BEE2-235928BB37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1392-5C5F-4B75-B479-ACACD0789C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EC95-3EF3-421B-BCB4-EC76F613139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B111-1851-43D0-BDB6-7748F3204B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8183-4E17-4450-A87B-E19F49CC6E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F947-46BA-4098-98A3-D71D1BA326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522-96E2-42EF-88FF-B6614002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B28-84FE-4BA7-96AE-60872BF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3E1-7D2A-4130-8840-ADC85C94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0FF-749D-44D8-AF65-EED9F5FE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8622-01AB-4859-ABC0-561ECA89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45E-5094-4442-98DB-AD5948BE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EAEA-0461-441D-BD9A-C17BD79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320F-A158-4898-BFD5-717882C2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47FA-87D1-41BD-B374-8E1C9540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DF9E-59FC-4559-BC30-E1B5B4C4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A45B-5BB1-4AFF-B18B-97F552A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58A-98C1-4413-84FA-4A00B53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DA1-4F23-4263-950F-A16615C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1F9A-3EE9-4B4D-8485-FC77267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C061-D24F-4F91-A2C4-30B1E1A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490-66CC-4C6F-985E-7351CF36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3C0-C703-4E83-A68E-EC3209C6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6F1-23B9-4344-BE94-40139AC8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F30-CF3D-40B9-9284-1B29EC5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E5B-8AF9-4B63-B803-F827E84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142-3295-42CA-AF16-14F4303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92A-B4B1-4406-AF69-40ECD05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20B-56A8-4568-A6EA-8D8BBB8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F06-0DEE-4612-A33F-4F14984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B59-F193-4624-BF83-895F7DBD1E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B778-E641-4873-BE1D-C1501A401F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к ми це робим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58120" cy="47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рантовані стандарти ≠ цільовий стандар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аші обіцянки ≠ вашої ме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ти стандарті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ідносин з клієнт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послуг, що надають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и віднос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ітко пояснити клієнтові, що необхідно зробити для того щоб досягти результа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снити, які його права та обов'язки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увати ввічливий персонал із міжособистісними навичками: дружелюбність, допомога, повага, чуйність до індивідуальних потреб клієнтів, знайомство, пояснювати уважно прислухаючись до кліє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ращуйте власні стандарти відносин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b)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існе надання послуг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Q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дусім, надання послуг це відповідь на питання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ідомлення ( наявність допомоги в надзвичайних ситуаціях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критості ( листів, форм і публікацій, процеси та іншої інформації про продукт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розумілості (люди з обмеженими можливостями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ності (консультацій, інформації, платежів та порядку заповнення 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повідності (наприклад, придатний для потреб клієнта і умов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d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ість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дення справи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Q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перервність;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івний доступ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упні ціни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іальна, культурна та екологічна прийнятні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ми це з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єчасність надання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значити, скільки часу клієнт чекатиме  поки послуга буде викон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лькісни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повідь на клієнтські контакти (листи, електронні повідомлення та телефонні повідомлення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обка (реєстрації, заявок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ійної служби (допомогти там, де немає де очікують на послуг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і служби (наприклад, час, щоб додзвонитися до співробітника, телефон призначень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илюднення ска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 нас знайти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ітко вкажіть всі способи комунікації між судом і громадськіст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іб залишити відгук щодо самої Харті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ва та обов'язки кліє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оскарження і апеляці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подання скарги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недоторканність приватного життя та конфіденційність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інформаці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доступ до послуг, об'єктів і інформації таким чином, який би відповідав їхнім потреб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анобливе ставлення до працівників суду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нктуальність участі в запланованих засідання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увати на прохання про надання інформації повною мірою та своєчасно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онувати будь-які юридичні вимоги та інші зобов'язання, які клієнти повинні мати для того, щоб виявити право на послугу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те відкриті для відгуків та ска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тія надання послуг повинна містити чітку інформацію щодо складання пропозицій та скар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а вітає відгуки (скарги, похвали і пропозиції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подати скаргу, в тому числі відповідні поштові та електронні адреси і номера телефону і факсу. Включити форми (наприклад, особа, коментар, онлайн відгуки, по телефону, листом, Номер телетайпу для тих, хто глухий, з розладами мови та слуху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дати відгук саме щодо харті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 те, відгук і процес розгляду скарг є доступним, простим у використанні і безкоштовним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д записує дані про кількість скарг, похвал і пропозицій, і ц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овується для поліпшення обслуговування клієнтів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ання установою такої системи подачі скарг і пропозицій не унеможливлює використання клієнтом інших апеляційних механізмів стосовно якості надання послу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іноді ви можете отримати компліменти!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 розвивати Хар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ю надання по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хема 6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Нав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жавна служба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ан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 державним орган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іє в загальних інтерес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ніверсаль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ля всі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вний дост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днакова ці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сультативний про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підготовці хартії, адміністрація суду повинна консультуватися з клієнтами(громадянами), персоналом та іншими ключовими зацікавленими сторонами у зв'язку з: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бором стандартів послуг для включення до хартії;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Налаштування гарантії по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значення розміру і рівня деталізації в хартії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рішити, яким чином будуть контролюватися положення хартії та обов'язки її виконавців.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7120" y="59500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лієнти + Зацікавлені сторони = Поговори з / Зустрінься з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ормат і стиль харт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Зробити його читабельним і зрозумілим кожном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планувати стиль написання презентації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нути правового жарго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отка, проста і зручна для користувачів презентація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ступні форма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ереклад на інші мови, окрім українсько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оступні веб-сайти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рифт Брай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удіо запи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рук крупним шрифт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айн, який відповідає потребам широкої клієнтської бази (наприклад, хороший контраст між фоном і текстом, використання кольору, розміру тексту і зображень без тла під текстом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овадження та поши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чний запуск Міністром або відповідною посадовою особо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мпанія в ЗМІ та  комунікаційна стратегія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інформації і розподіл хартії для всіх співробітників, клієнтів і зацікавлених сторін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ширення хартії по всіх можливих контактах клієнта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міщення на веб-сайт Су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та аналі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тія надання послуг є живим документом живої організац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воєння уроків є одним із засобів поліпшити рівень надання послуг і самої Харт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питай себ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ми дізналися після перших хартій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у нас поліпшилося  за цей час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она як і раніше відображає реальність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ідхід до обслуговування клієнтів суд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 і пріоритети клієнтів та ключових зацікавлених сторі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сучасне точності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формат, дизайн потребам клієнтів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кі були зібрані відгуки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потрібно вносити зміни в процес розгляду скарг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тандар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ієнтських відгуків і скар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гуків про хартію надання послу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повідальност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гляд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82692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доповісти!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 це інформаційний пак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що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 що надаються Су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треб ваших клієнтів та зацікавлених сторі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ний докумен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ява про основні права громадя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ринципи, що регулюють надання їм послуг в державних устан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обов'язання, (не правовий докумен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ітко визначає суд, призначення суду, його клієнтської бази та перелік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тановлює зв’язок між судом та тими хто ним користує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ановлює клієнтом агентства стандарти обслуговування клієнтів і права та обов'язк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ліч способів отримання зворотного зв'язку та обробки запитів клієнтів і скарг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робляється в ході консультацій з клієнтами, персоналом та іншими ключовими зацікавленими сторо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іодичний моніторинг та о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о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зор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віт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мір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унікаці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ручність для користувач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чання та підвищенн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включається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на інформація стосовно Суду;</a:t>
            </a: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Надяння послуг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Стандарти обслуговування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и зв'яз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а та обов'язки осіб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ідгуки і скарги громадя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то ми такі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кладинка, яка чітко ідентифікує документ як Хартію обслуговування клієнт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і відомості про суд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Перелік персоналу;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клади зая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ієнтська база (фактична або потенційна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то є зацікавленими сторон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ієнти проти зацікавленої сто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лієнти: ті, кому суд безпосередньо надає послуги (внутрішні + зовнішні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Громадя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Юри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удд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івробі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'язн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цікавлена сторона: ті хто безпосередньо зацікавлені в успішній діяльності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нші урядові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ізнес-груп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юди з додатковими або особливи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права: спробуйте позначити клієнтів і зацікавлених сторін вашого Суду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ми 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чення (місія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зиція, цілі харт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ік послуг, що надають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ата публікації хартії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а проведення наступного огля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Місія– це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3:00Z</dcterms:modified>
  <cp:revision>65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