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6E90-9FCA-4D00-BB4B-94E62146CA8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F045-00AF-49DF-924F-7500B77EC94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5E19-6BC5-4308-AD5C-E626FC82E45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standards that will always be met on all occa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AF11-4617-49F3-AAC2-B179607BDF3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13DD-FF43-4751-AF70-19D0B6A14F6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3574-ACF6-4301-8C0B-2C5BFD7D16A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E5F1-2A63-42A8-9313-3182289F949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t is important for all client contact staff to be trained in receiving feedback, including assi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ents to articulate their concerns as well as processing and actioning that feedback.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ining should also cover dealing with members of the public, especially those who are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o be distr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24D5-21D6-4B33-BA30-293E4575C6E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A7AF-A8C7-4CAD-A33F-559FE5EF60A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service charter is not intended to confer legally enforceable rights on clients! Please consider having your charter reviewed by a legal expert to ensure that the wording used does not inadvertently give rise to legal l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8851-2A33-4DA4-A989-A95DFCC01F5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D86B-D896-4F85-A356-8BDC2A3C257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21D7-2EA2-4FEB-B157-07A45C3D66C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94E-88D3-4984-9748-088307C5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0A8-3EDF-46C4-BD30-2C85C3D9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097-7067-40FB-9BF2-D322521B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279-4B2F-4AA1-A018-30E46B2D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EC11-19C3-47C3-904F-400C7D39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9309-C860-4548-96A6-D9ABD212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3EA9-2002-4195-A79B-32CC02C8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469C-D2FC-4622-A621-89BE9509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3C21-8022-41BA-AC47-923AB8A2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27EA-F95F-4A3E-AF1E-FA0B32E1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1FF5-EEAF-4BC1-BEE8-3E4758FD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A0C-AA90-4909-ACAA-3FFF691D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9B72-B2D1-48F1-BBB8-B1DCE2FF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E943-CA4A-4A7E-B5A1-4F4F2F0A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F8D1-DA5D-47DB-A393-E5D3C551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9E2D-AEDE-4E91-9356-405D494B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6757-9BB5-4FD2-AD74-EDB8E5FF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BBC-A071-48B9-B3DE-A68482E0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92A-529A-4BDD-A6D2-5909B1DD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760-AEB1-4245-88FA-00BBB2E6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CD2-F1C1-495D-B55C-35422E53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457-BD23-4B86-9290-BA18A54F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687-8B8C-4B05-A3E2-086DBD93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B1E-5220-4E1C-AD13-0E35AAAD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763A-D5D7-4AA6-9549-002EB67DE5D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5145-A941-48A8-9BA5-A727BAE4A96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progetto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relatore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к ми це робим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8400" y="1213920"/>
            <a:ext cx="8358120" cy="47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рантовані стандарти ≠ цільовий стандар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ваші обіцянки ≠ вашої мет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а комплекти стандартів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відносин з клієнт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послуг, що надають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викон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a)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ндарти відноси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ітко пояснити клієнтові, що необхідно зробити для того щоб досягти результа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яснити, які його права та обов'язки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антувати ввічливий персонал із міжособистісними навичками: дружелюбність, допомога, повага, чуйність до індивідуальних потреб клієнтів, знайомство, пояснювати уважно прислухаючись до клієн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кращуйте власні стандарти відносин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FFJ"/>
          <p:cNvPicPr/>
          <p:nvPr/>
        </p:nvPicPr>
        <p:blipFill>
          <a:blip r:embed="rId1"/>
          <a:stretch/>
        </p:blipFill>
        <p:spPr>
          <a:xfrm>
            <a:off x="1619280" y="1614600"/>
            <a:ext cx="60483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b)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існе надання послуг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(Q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ередусім, надання послуг це відповідь на питання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відомлення ( наявність допомоги в надзвичайних ситуаціях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критості ( листів, форм і публікацій, процеси та іншої інформації про продукт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розумілості (люди з обмеженими можливостями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чності (консультацій, інформації, платежів та порядку заповнення 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повідності (наприклад, придатний для потреб клієнта і умов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d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кість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едення справи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Qo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перервність;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івний доступ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ступні ціни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ціальна, культурна та екологічна прийнятні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c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ли ми це зробимо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єчасність надання послу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значити, скільки часу клієнт чекатиме  поки послуга буде викона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ількісний 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ідповідь на клієнтські контакти (листи, електронні повідомлення та телефонні повідомлення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обка (реєстрації, заявок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арійної служби (допомогти там, де немає де очікують на послугу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ні служби (наприклад, час, щоб додзвонитися до співробітника, телефон призначень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илюднення скар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Як нас знайти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ітко вкажіть всі способи комунікації між судом і громадськістю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іб залишити відгук щодо самої Хартії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ава та обов'язки клієн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оскарження і апеляцію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подання скарги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недоторканність приватного життя та конфіденційність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інформацію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доступ до послуг, об'єктів і інформації таким чином, який би відповідав їхнім потребам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анобливе ставлення до працівників суду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нктуальність участі в запланованих засіданнях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гувати на прохання про надання інформації повною мірою та своєчасно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иконувати будь-які юридичні вимоги та інші зобов'язання, які клієнти повинні мати для того, щоб виявити право на послугу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дьте відкриті для відгуків та ска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тія надання послуг повинна містити чітку інформацію щодо складання пропозицій та скарг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анова вітає відгуки (скарги, похвали і пропозиції)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к подати скаргу, в тому числі відповідні поштові та електронні адреси і номера телефону і факсу. Включити форми (наприклад, особа, коментар, онлайн відгуки, по телефону, листом, Номер телетайпу для тих, хто глухий, з розладами мови та слуху)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к дати відгук саме щодо харті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 те, відгук і процес розгляду скарг є доступним, простим у використанні і безкоштовним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д записує дані про кількість скарг, похвал і пропозицій, і ц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икористовується для поліпшення обслуговування клієнтів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икористання установою такої системи подачі скарг і пропозицій не унеможливлює використання клієнтом інших апеляційних механізмів стосовно якості надання послуг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61657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.. І іноді ви можете отримати компліменти!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ин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2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к розвивати Харт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ю надання послу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хема 6" descr=""/>
          <p:cNvPicPr/>
          <p:nvPr/>
        </p:nvPicPr>
        <p:blipFill>
          <a:blip r:embed="rId1"/>
          <a:stretch/>
        </p:blipFill>
        <p:spPr>
          <a:xfrm>
            <a:off x="457200" y="1195560"/>
            <a:ext cx="8229600" cy="54003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9"/>
          <p:cNvSpPr/>
          <p:nvPr/>
        </p:nvSpPr>
        <p:spPr>
          <a:xfrm>
            <a:off x="3059280" y="3429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Навчанн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ржавна служба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3863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дан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а державним органо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іє в загальних інтерес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ніверсаль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ля всі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Рівний досту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Однакова ці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онсультативний проц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73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ри підготовці хартії, адміністрація суду повинна консультуватися з клієнтами(громадянами), персоналом та іншими ключовими зацікавленими сторонами у зв'язку з: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бором стандартів послуг для включення до хартії;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Налаштування гарантії послуг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  <a:ea typeface="Arial"/>
              </a:rPr>
              <a:t>;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значення розміру і рівня деталізації в хартії;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рішити, яким чином будуть контролюватися положення хартії та обов'язки її виконавців.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57120" y="5950080"/>
            <a:ext cx="82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Клієнти + Зацікавлені сторони = Поговори з / Зустрінься з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Формат і стиль харт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 Зробити його читабельним і зрозумілим кожном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Спланувати стиль написання презентації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никнути правового жаргон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отка, проста і зручна для користувачів презентація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Доступні формати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Переклад на інші мови, окрім української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Доступні веб-сайти;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Шрифт Брайл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Аудіо запис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Друк крупним шрифт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зайн, який відповідає потребам широкої клієнтської бази (наприклад, хороший контраст між фоном і текстом, використання кольору, розміру тексту і зображень без тла під текстом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провадження та пошир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учний запуск Міністром або відповідною посадовою особою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мпанія в ЗМІ та  комунікаційна стратегія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дача інформації і розподіл хартії для всіх співробітників, клієнтів і зацікавлених сторін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ширення хартії по всіх можливих контактах клієнта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зміщення на веб-сайт Суд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та аналі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артія надання послуг є живим документом живої організації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своєння уроків є одним із засобів поліпшити рівень надання послуг і самої Харті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питай себе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Що ми дізналися після перших хартій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Що у нас поліпшилося  за цей час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она як і раніше відображає реальність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ідхід до обслуговування клієнтів судом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треби і пріоритети клієнтів та ключових зацікавлених сторін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ідповідає сучасне точності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ідповідає формат, дизайн потребам клієнтів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Які були зібрані відгуки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потрібно вносити зміни в процес розгляду скарг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тандарт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лієнтських відгуків і скар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гуків про хартію надання послу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икон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ідповідальност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ерегляд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826920" y="4653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.. і доповісти!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 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- це інформаційний пак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що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слуг що надаються Суд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треб ваших клієнтів та зацікавлених сторі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ержавний докумен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ява про основні права громадя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 принципи, що регулюють надання їм послуг в державних установ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обов'язання, (не правовий докумен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bundesbrief"/>
          <p:cNvPicPr/>
          <p:nvPr/>
        </p:nvPicPr>
        <p:blipFill>
          <a:blip r:embed="rId1"/>
          <a:stretch/>
        </p:blipFill>
        <p:spPr>
          <a:xfrm>
            <a:off x="5364000" y="2781360"/>
            <a:ext cx="2819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ітко визначає суд, призначення суду, його клієнтської бази та перелік послу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Встановлює зв’язок між судом та тими хто ним користує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тановлює клієнтом агентства стандарти обслуговування клієнтів і права та обов'язки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зліч способів отримання зворотного зв'язку та обробки запитів клієнтів і скарги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зробляється в ході консультацій з клієнтами, персоналом та іншими ключовими зацікавленими сторон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іодичний моніторинг та огля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ов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слуг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розор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вітн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мірн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Комунікаці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ча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ручність для користувачі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вчання та підвищенн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Що включається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Основна інформація стосовно Суду;</a:t>
            </a: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Надяння послуг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Стандарти обслуговування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и зв'язку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а та обов'язки осіб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ідгуки і скарги громадя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то ми такі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кладинка, яка чітко ідентифікує документ як Хартію обслуговування клієнті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і відомості про суд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Перелік персоналу;</a:t>
            </a: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клади зая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ієнтська база (фактична або потенційна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то є зацікавленими сторон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ієнти проти зацікавленої стор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21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Клієнти: ті, кому суд безпосередньо надає послуги (внутрішні + зовнішні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Громадя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Юри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удд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півробітн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В'язні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05160" y="1483920"/>
            <a:ext cx="3787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цікавлена сторона: ті хто безпосередньо зацікавлені в успішній діяльності Суд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ержа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нші урядові установи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бізнес-груп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люди з додатковими або особливими потребами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1258920" y="5229360"/>
            <a:ext cx="705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684360" y="5516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Вправа: спробуйте позначити клієнтів і зацікавлених сторін вашого Суду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Що ми робимо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значення (місія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позиція, цілі хартії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лік послуг, що надають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Дата публікації хартії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та проведення наступного огляд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Місія– це…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06:42Z</dcterms:created>
  <dc:creator>pippo</dc:creator>
  <dc:description/>
  <dc:language>en-US</dc:language>
  <cp:lastModifiedBy>lipovyi</cp:lastModifiedBy>
  <dcterms:modified xsi:type="dcterms:W3CDTF">2013-08-01T09:33:00Z</dcterms:modified>
  <cp:revision>65</cp:revision>
  <dc:subject/>
  <dc:title>Service Char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2</vt:r8>
  </property>
</Properties>
</file>