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DFA-A051-4E0C-8109-C096C5A9A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959-F907-42D3-80FC-D0EDB0FDF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CACD-336D-4D83-BB50-8E37325EE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A14-2AAC-474D-A776-B67954FD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C25-4792-4EFD-A362-B477814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8FF-F6DF-4721-8880-FB4765E7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A06-9AD2-4F0E-AB16-5A015F5B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46E-916F-462B-9514-EFEA14F8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E61-8932-47A8-92C7-C0082AF9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DC2-2A46-4688-9F58-25A5CC2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E27-57A6-411C-B618-25F4EB64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E0E-9F38-4957-9839-B71B6EE6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7CE-4D6B-4DD0-B03B-BBD5C8B0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432-905F-4BFC-9DE2-3EE290E5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009-2148-4B71-B553-3327D6B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5CD-6561-418D-A574-73E9C4F18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2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Зв'язки з громадськістю -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пільн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овір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та конфіденційніст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в су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76720" y="5943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едські с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v_center"/>
          <p:cNvPicPr/>
          <p:nvPr/>
        </p:nvPicPr>
        <p:blipFill>
          <a:blip r:embed="rId2"/>
          <a:stretch/>
        </p:blipFill>
        <p:spPr>
          <a:xfrm>
            <a:off x="3352680" y="4419720"/>
            <a:ext cx="2305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Garamond"/>
              </a:rPr>
              <a:t>Важливі фак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ступність судів та працівників суду для сторін 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свідкі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ідношення в суді до сторін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а свід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роцесуальні строки у су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зорість процесу прийняття судових ріш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Формулювання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рішень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та ух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ким чином діяльність судів зображується в засобах мас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Обізнанні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широкої громадськості про те, що відбувається в судах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оведінк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судд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аходи щодо поліпшення процесу прийому громадян, та учасників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рекомендацій та вимог до співробітників суду відповідальних за прийом громадян щодо спілкування із  учасниками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гкий доступ громадян до електронної, телефонної та письмової інформації суду.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інформації щодо правил та вимог участі сторін у процес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провадження «Приймальні громадян»- окремого структурного підрозділу або визначення відповідального фахівця  з метою поліпшення звязків з громадскісьтю  та З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онал суду має пройти навчання щодо прийому громадян та спілкуванню з учасниками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Заходи щодо вдосконалення формулювань  судових доку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провадження офіційних рекомендацій та вимог щодо оформлення судових документів (рішень, ухвал,п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останов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Рекомендації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щодо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икористання формулювань при написанні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судових документів (рішень, ухвал,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вирок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ів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Працівники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суд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відповідальні за розробку судових документів мають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пройти підготовк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написання суд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Необхідні заходи щодо покращення  відносин  судів із засобами масов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і –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ють знаходити час на спілкування з ЗМІ щодо справ які вони розглядаю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и суді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ні сприяти створенню атмосфери відкрит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й в суді якщ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групп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ю 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регулярного обміну досві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ь спілкування із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судова адміністраці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готовку судд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апарату су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нь взаємодії із ЗМ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служба Національної судової адміністраці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відп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журналістів та інших осіб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икли питання з приводу діяльності су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 суду у Швеції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іційн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и суди і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про діяльність су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Інші заходи для зміцнення довіри в су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ращі веб-сай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ступ сторі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учасників процесу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 інформації пр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д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рав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лектронне діловодст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су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спілкування з громадськістю, відкритий доступ до інформації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логи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фесійні спільноти тощ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відкриті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ової систе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ідвід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шкі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нь відкритих дверей в суд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4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