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72B4-3673-4372-A49D-6ABEFA21C7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836B-5321-483F-ABCE-2CBF4C22A9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51D4-8109-4154-8926-5F22BE7203D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0E80-2F3A-4AC0-94E5-09589FC63F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5BE3-5137-40F9-A6AD-D1C400129FB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08C5-392C-40E2-B619-3E66B800B5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C05D-17AC-445D-8DAF-CB9DE5CEB7A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ell, you have probably seen the film “Angels and Dem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4C20-BC2F-4D5B-92E5-1D71896FA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3BC9-521F-41F3-B3BC-09F68BA32D4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E24D-056B-4CD5-A799-D77A36D38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3C4F-4893-4CEE-AC4E-4247D296967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0CEF-D13E-4D79-809F-6981651F84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337E-7F33-4299-8925-0427717838C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0D3A-1055-457F-859E-BD418E5B7B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D945-F3DC-4E45-8305-A495B1B12EC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25B8-0AD8-477A-9B69-708116D65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71BD-38CC-49C4-8A83-658471ECA254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239E-EBDD-4EBF-9915-C04B2D1FF8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3FE6-43D5-4E54-8ADE-377DF6B9D36E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1253-3DA8-44E1-B72C-90C10BA78B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F48F-63CD-4B6E-A479-78B42D37F38E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399E-B124-4ED4-AF77-60D4E98E31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9054-8600-49C5-B61B-BE7E4B635C4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606F-8057-452D-9FE8-60B11547B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1471-86CD-4CFF-99EB-3557F2E5DDD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296B-EB6B-4810-93D7-547895DED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23A3-7710-4B3D-8823-F92A16AE794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4784-B14D-40F7-89C1-95AAB9E7DB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BEB4-61D4-4F3B-A4B1-8BF59AE3677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48BB-5D92-4ADF-A4B3-BC07E8218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1C00-1A62-4163-80D7-E4BA564DCA6E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5CBC-2EF1-4B0B-93D5-32C0D6A28F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7E62-9A74-4EA4-AD57-524971DDD25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5FC6-E5EE-48B4-B707-AA58466045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51BF-521E-45D4-8558-A9C7815B1C5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D5EC-FD68-4B0D-97CB-78817774AD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4F03-05E2-4FB3-B061-B846C3CD1C6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46CD-5321-4FEA-B042-C330E5D0FC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C991-43C0-4F6D-9561-0C97C4DC1A7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8D0A-E7CF-4CC7-93E9-28FE5322E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0F86-B894-43B1-9302-9905699A03F4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D818-294F-4164-82BA-65AC25B0B9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66E8-C0A8-468A-A1FB-051DB1EB3BAD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3132-5726-449E-A165-B95C3D1BBF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EB0C-EE1D-4D98-84F8-F797F250F49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9D8-9A04-42BF-9A6F-C087CE5C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688-DA57-408B-9164-DCF5536B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1F8-0A6F-4A24-ACAC-6F3DEC0B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4EF-5D46-4C25-AF21-03896E25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264-BF35-4B02-B831-0BBC97C7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1AE-ABF5-45CF-868C-F7C7FAC3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A40D-615A-4E61-AC96-16F21445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30C-AD98-4D68-9B6B-468B01A6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C0F-C8C7-4885-BC63-65792AC4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0F9-DE30-47F4-B0C0-F4A79B10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39E-FC1D-432D-8214-467917BC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FF56-32B5-49DF-A5AD-B9669F26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E542-49D4-4BF5-8B42-87947F6C64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ribsorvroma.wordpress.com/" TargetMode="External"/><Relationship Id="rId2" Type="http://schemas.openxmlformats.org/officeDocument/2006/relationships/hyperlink" Target="http://twitter.com/tribsorv" TargetMode="External"/><Relationship Id="rId3" Type="http://schemas.openxmlformats.org/officeDocument/2006/relationships/hyperlink" Target="http://www.flickr.com/photos/46730249@N02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 судоустрою Італії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64000" y="1294920"/>
            <a:ext cx="3780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Garamond"/>
              </a:rPr>
              <a:t>Даріо Куінтавал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іністерство юстиції Іта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рівник апара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ний суд з нагля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иконанням покар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ста 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quadriga"/>
          <p:cNvPicPr/>
          <p:nvPr/>
        </p:nvPicPr>
        <p:blipFill>
          <a:blip r:embed="rId1"/>
          <a:stretch/>
        </p:blipFill>
        <p:spPr>
          <a:xfrm>
            <a:off x="324000" y="13716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глядове правосудд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ribun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rveglianza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нує функції, я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ершої інстан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так і суду апеляційної інстанції з питань виконання покаран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д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 нагляду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agistra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rveglianza) є суддею першої інстанц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 нагляду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л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 + 2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д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ксперт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 питан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ихолог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соці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х проблем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світ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сихіатрії та клін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римінолог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міста 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DSC04275p"/>
          <p:cNvPicPr/>
          <p:nvPr/>
        </p:nvPicPr>
        <p:blipFill>
          <a:blip r:embed="rId1"/>
          <a:stretch/>
        </p:blipFill>
        <p:spPr>
          <a:xfrm>
            <a:off x="324000" y="1628640"/>
            <a:ext cx="86040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міста 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00720" y="1628640"/>
            <a:ext cx="28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ста Рим розглядає справи загальнонаціонального значе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DSC09219"/>
          <p:cNvPicPr/>
          <p:nvPr/>
        </p:nvPicPr>
        <p:blipFill>
          <a:blip r:embed="rId1"/>
          <a:stretch/>
        </p:blipFill>
        <p:spPr>
          <a:xfrm>
            <a:off x="250920" y="177336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Будьте нашими друзя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80000" y="1628280"/>
            <a:ext cx="356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ibsorvroma.word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book: Tribunale di Sorveglianza di 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witter.com/tribso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ckr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lickr.com/photos/46730249@N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an"/>
          <p:cNvPicPr/>
          <p:nvPr/>
        </p:nvPicPr>
        <p:blipFill>
          <a:blip r:embed="rId4"/>
          <a:stretch/>
        </p:blipFill>
        <p:spPr>
          <a:xfrm>
            <a:off x="179280" y="1773360"/>
            <a:ext cx="5400720" cy="44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уд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управл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ща Рада Судді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олює Президент Республі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ирається усіма судд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чає Голів судів та Прокуро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іє як дисциплінарний суд для судді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іністерство Юсти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значення суддів, адвокатів, нотаріусів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парат суд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основних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партамен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дова Адміністраці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іністрація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”язни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венальна юстиці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конотворчий департ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.000 співробітник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ерівники апара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адовц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іністерства юстиці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повідальні за кадров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рганізац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йне 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інанс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ве забезпеченн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звітн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ін'юс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ада запроваджена 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з організованою злочинніст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 основних злочинних організації (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фі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кремий ви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лочи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"мафіозні об'єднання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: Національн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управлінн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оротьбі з мафіє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A: Національний прокурор по боротьбі з мафією під наглядом Генерального прокурора Кас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іціює 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орди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озслідува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A: Районні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правлінн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оротьби з мафією (2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креме агенст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іції боротьбі з маф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з організованою злочинніст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28640"/>
            <a:ext cx="84582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жим утримання у в»язниці : Мафія + тероризм + наркоти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користування телефон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спілкування або листування з іншими ув'язнени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зустрічі з третіми сторон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ження на побачення (членам родини дозволено один раз на місяць за умови спілкування чере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m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сте скло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отримання або відправлення грошей (більше встановленої су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організацію культурних, рекреаційних та спортивних заході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голосування або стоячи у виборах тюремних представникі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участь у мистецькій і ремесленіцькій діяльност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проти організованої злочиннос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rresto_provenzano"/>
          <p:cNvPicPr/>
          <p:nvPr/>
        </p:nvPicPr>
        <p:blipFill>
          <a:blip r:embed="rId1"/>
          <a:stretch/>
        </p:blipFill>
        <p:spPr>
          <a:xfrm>
            <a:off x="250920" y="1989000"/>
            <a:ext cx="4389480" cy="3854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ста Рим діє на загальнонаціональному рівні як апеляційний с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41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 dec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іскація всіх активів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 статків 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альшим призначенням на соціальні ці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о Італі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б”єдна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ї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 1861 ро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мократична Республіка з 1946 ро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раїна-член Европейського Сою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новник НА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показниками виробництва ВВП посіда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місц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іт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ема охорони здоров'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а оцінками Всесвітньої Організації Здоров”я посіда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місц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ві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Колиска закону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ший в світі університет (Юридичний факультет Боло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ї 1088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ша країна,в якій було скасовано смертну кару (178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лен E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роюс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точні пробле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ганізована злочинні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румпован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тій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нфлікт між політикою та судов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 системо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дмірна кількість відкладених спра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вільного судочинства (5 мільйонів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дмір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вал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гляд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міналь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их спра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є справи за порушення ЄКПЛ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Європейська Конвенція з Прав Люд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тяжуюч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конодавств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,00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процес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ифікац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Найбільш важливий італійський внесок в  українську систему судоустрою Поки щ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авові машини Еспресс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! 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offeemachine"/>
          <p:cNvPicPr/>
          <p:nvPr/>
        </p:nvPicPr>
        <p:blipFill>
          <a:blip r:embed="rId1"/>
          <a:stretch/>
        </p:blipFill>
        <p:spPr>
          <a:xfrm>
            <a:off x="1692360" y="1413000"/>
            <a:ext cx="5740200" cy="52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питанн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 Відповіді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untoint"/>
          <p:cNvPicPr/>
          <p:nvPr/>
        </p:nvPicPr>
        <p:blipFill>
          <a:blip r:embed="rId1"/>
          <a:stretch/>
        </p:blipFill>
        <p:spPr>
          <a:xfrm>
            <a:off x="1187280" y="1700280"/>
            <a:ext cx="69850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селення та імміграц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tranieri_in_Italia_2008"/>
          <p:cNvPicPr/>
          <p:nvPr/>
        </p:nvPicPr>
        <p:blipFill>
          <a:blip r:embed="rId1"/>
          <a:stretch/>
        </p:blipFill>
        <p:spPr>
          <a:xfrm>
            <a:off x="324000" y="2924280"/>
            <a:ext cx="8604000" cy="3744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24000" y="1197000"/>
            <a:ext cx="842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60.000.000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4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млн. іммігран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&gt; 300.000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українці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( “Badanti” =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доглядальниці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Уряд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рховенство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о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алат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л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ря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залежна судова вл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зиден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еспублі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мер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і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с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Регіо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итуці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міністративні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іональний закон (не в цивільних і кримінальних справ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3200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титуційний су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галь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циві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і кримін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дміністративний суд бухгалтер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ійско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іск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giudici"/>
          <p:cNvPicPr/>
          <p:nvPr/>
        </p:nvPicPr>
        <p:blipFill>
          <a:blip r:embed="rId1"/>
          <a:stretch/>
        </p:blipFill>
        <p:spPr>
          <a:xfrm>
            <a:off x="179280" y="1700280"/>
            <a:ext cx="4608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гіст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000 (+ 3500 почесних судді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лежність  та самовряд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курори+ Судд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раються за конкурс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єрний зріст за старшин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сока репутація і прести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7 магістратів вбито (1969 - 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falcone_borsellino"/>
          <p:cNvPicPr/>
          <p:nvPr/>
        </p:nvPicPr>
        <p:blipFill>
          <a:blip r:embed="rId1"/>
          <a:stretch/>
        </p:blipFill>
        <p:spPr>
          <a:xfrm>
            <a:off x="4284720" y="1700280"/>
            <a:ext cx="460836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4427640" y="5300640"/>
            <a:ext cx="42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жованні Фальконе -  Паоло Борселі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ова систе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Цивіль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риміналь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асаційний с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пеляційний с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першої інстанці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ировий суд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льний прокурор при Касаційному суд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льний прокурор при Апеляційному суд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ржавний обвинув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4859280" y="5229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курор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ходять до склад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еціаль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ідді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ліції (судової поліції), координують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слідування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истема правосудд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 мати 3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ових засідання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Кас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шенн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е є остато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не підлягає виконанн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о Кас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кщо Касац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ю відхил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значаютьс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і слух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еляц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це нові рішення, а не перегляд прецедентної постанови (Novum judicu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іякого суду присяжних, але більшість серйозних справ, розгл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ає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виїздни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ом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до складу якого входять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фесійних суддів, Giudici Togati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професій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udici Popol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0,000 осіб за гратами ( ½ з них громадяни інших держав… Українців не багато), дуже часто оголошується амніст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ституція забороняє негуманне поводження з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найголовніша ланка виправної систе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ймає рішення про випробний термін (умовне покаран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онує рішення су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понує альтернативні засоби відбування пока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ує заходи безп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25:0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