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2D45-AD30-4BB6-9524-0B94A05A48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A22B-94DB-4273-9871-E527692DC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40DB-A2B8-40BF-99C4-776212F75A7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EE8-E0F1-4256-9579-2C4F579FB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3BA-1FF3-4313-9D79-CC93351107F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6A34-547A-43DB-8CFD-9478FC236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804-AE37-4DD6-96EF-9706DA23A04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D65-A413-4ED4-B324-626E564D7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0DC9-B4F0-441E-A6A2-4DA9ADDD574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9F5-FAF1-487B-8A69-EABC78F67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61EB-B4FE-4058-892F-874AE1D1284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C2B9-8D5C-422E-B5E9-094E618ED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D4B4-46AF-4097-AD32-653AB904588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BAF-DCE9-4272-9BDC-1383CAE29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A911-9DD2-473E-ABEE-4412AD8ED80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7EFB-9F50-4CA3-ABB8-948D43028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466E-E2C7-41ED-A28D-438EEF05253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95C-3325-4E67-B6A0-317D8EDE7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31A4-2D57-43BC-919D-349A5AB3CB8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7A49-55D7-4559-8B4C-5A6A0C276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51BF-E159-4302-962C-16BF0CC20BC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EC4F-BDFB-4CE5-9EF1-32B453C4F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4C2A-A334-4F80-A0F6-27521E76A41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5398-520C-47C7-9629-937E8C7C4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A9AD-0F7A-49FE-AC3F-7EDC24B2679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76D-0768-45AF-BA3F-574CF781C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990A-9C5F-4B05-A3A3-E3F7C3F6076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6813-64C0-4D40-A4F7-FFCBD63A9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ADA-A5CB-4DCB-A1A9-E10B844C7D1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42E9-A950-4C80-8417-236EA66B1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01A4-2A36-4066-BCB5-11A69C417FA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579B-32DD-42E2-9D68-0720D1A91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BB62-408E-4CEF-9285-D85BBCEEFD4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941B-200A-4D2F-9F59-1BEE4B6C0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1C38-64C7-4D7B-A354-CFC23230644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5753-C42A-41AE-9A73-7F52D0BE9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4624-3C88-48C7-95A0-E51DE59DD59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2406-FFFB-4F2F-8F2B-B62151930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7C51-073F-459C-A1B0-98C42A44136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0891-6FE3-4855-A5BC-3B0FB290E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6C24-4E22-4ABB-A3CC-C06218ACB4F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AB11-2B6F-4484-B8B1-99E49E56B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37CF-8FC5-480D-A563-9CE642B0DDE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4C69-8FB5-4CF0-B8CD-0F1A2E272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D05-2795-4FCC-81E3-C30496D4693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8DC-51DE-4D94-87DE-3523A7BD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948-277A-4F3A-B489-DDFFA6D8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B3C-4240-4268-8D2E-DB488C40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0B2-B38F-4D8B-9E5A-D4629D3A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DAD-B55B-42A5-ABC0-7578BA2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089-C3DD-4168-9B12-9A61E72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4A4-C122-4A9B-9424-2B90AD9C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325-68F8-48BE-B7A0-27F2E126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86A-0432-440B-9B1B-E5CF12FB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C18-703F-41A5-A03C-824E1BFF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BB2-06BF-4598-AC4A-A52F33B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0E4-259A-4248-BDFA-E9DBA51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8329-91F6-4616-A2A6-1E3B6057E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64000" y="1294920"/>
            <a:ext cx="3780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Garamond"/>
              </a:rPr>
              <a:t>Даріо Куінтава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істерство юсти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івник апар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ий суд з нагл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конанням пок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та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quadriga"/>
          <p:cNvPicPr/>
          <p:nvPr/>
        </p:nvPicPr>
        <p:blipFill>
          <a:blip r:embed="rId1"/>
          <a:stretch/>
        </p:blipFill>
        <p:spPr>
          <a:xfrm>
            <a:off x="324000" y="13716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глядове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ibu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ує функції, я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шої інстан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так і суду апеляційної інстанції з питань виконання покара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нагляд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gistra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є суддею першої інста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л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+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пер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итан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оці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х проблем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ві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іатрії та клін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римін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розглядає справи загальнонаціонального зна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ьте нашими друзя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: Tribunale di Sorveglianza di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ща Рада Судд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олює Президент Республі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рається усіма судд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чає Голів судів та Прокур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іє як дисциплінарний суд для судд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стерство Юсти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чення суддів, адвокатів, нотаріусів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парат су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основни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партамен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ова Адміністр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”яз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венальна юстиці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творчий департ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.000 співробі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ерівники апар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овц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ністерства юст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і за кадров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рганізац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йне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інан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ве забезпеч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звітн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ін'юс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а запроваджена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основних злочинних організації (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кремий в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"мафіозні об'єднанн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: Націон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і з маф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A: Національний прокурор по боротьбі з мафією під наглядом Генерального прокурора Кас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ює 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ор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слідува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A: Райо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равлі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и з мафією (2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креме агенст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іції боротьбі з маф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утримання у в»язниці : Мафія + тероризм + наркоти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користування телефо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спілкування або листування з іншими ув'язнени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зустрічі з третіми сторон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ження на побачення (членам родини дозволено один раз на місяць за умови спілкування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сте скл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тримання або відправлення грошей (більше встановленої су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рганізацію культурних, рекреаційних та спортивних заход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голосування або стоячи у виборах тюремних представник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участь у мистецькій і ремесленіцькій діяльност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проти організованої злочин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діє на загальнонаціональному рівні як апеляційний 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4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 dec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іскація всіх актив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статків 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льшим призначенням на соціальні ці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 Італі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”єдн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ї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 1861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кратична Республіка з 1946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-член Е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новник НА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показниками виробництва ВВП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і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ма охорони здоров'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оцінками Всесвітньої Організації Здоров”я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і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Колиска закону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ий в світі університет (Юридичний факультет Бол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ї 1088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а країна,в якій було скасовано смертну кару (178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лен 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рою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очні пробл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ганізована злочин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румпован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тій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лікт між політикою та судо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систем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кількість відкладених спра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вільного судочинства (5 мільйоні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міналь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х спр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є справи за порушення ЄКП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ейська Конвенція з Прав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тяжую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онодавст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,00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процес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ифіка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айбільш важливий італійський внесок в  українську систему судоустрою Поки щ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вові машини Еспресс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! 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Відповід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селення та іммігр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60.0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млн. іммігра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gt; 3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українці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( “Badanti” =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доглядальниц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ря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рховенство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ала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залежна судова в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еспублі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мер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і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Регі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іністративні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іональний закон (не в цивільних і кримінальних справ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ійний 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циві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 кримін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іністративний суд бухгалте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ійск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іск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гіст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00 (+ 3500 почесних судді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лежність  та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урори+ Судд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раються за конкур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єрний зріст за старш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ока репутація і прести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магістратів вбито (1969 -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4427640" y="5300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жованні Фальконе -  Паоло Борселі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ова систе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Циві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міна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са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першої інстанці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ировий суд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Каса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Апеля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ржавний обвину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курор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ходять до скла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іаль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ідді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ліції (судової поліції), координую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слідування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стема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мати 3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их засідання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ше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 є остато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 підлягає виконанн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кщо Каса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ю відхил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ають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і слух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еля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це нові рішення, а не перегляд прецедентної постанови (Novum judic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іякого суду присяжних, але більшість серйозних справ, розгл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ає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їзд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о складу якого входять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есійних суддів, Giudici Togati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професій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udici Popo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0,000 осіб за гратами ( ½ з них громадяни інших держав… Українців не багато), дуже часто оголошується амніст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титуція забороняє негуманне поводження з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найголовніша ланка виправної систе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ймає рішення про випробний термін (умовне покар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нує рішення 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є альтернативні засоби відбування пока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ує заходи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5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