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568-D413-4828-8159-76F960E037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645-96FC-4B6D-97FD-C49B7C4F75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12D0-58E1-4EC5-BB0B-399CB2C645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956-3D37-4EAE-A0A1-DDB2E45F51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542-E61C-4CF6-96DD-4B5D7C2C75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CE82-F804-4ADA-852B-4A5A0658C5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E1EC-D97D-4AA2-82C4-2EE3B12408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D4BE-829A-42C9-A367-62F3584827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741-8C18-4FFD-B5C3-7AEA58468B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AE0-2B31-4DA6-A823-5F950123CA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7827-C2A6-4A8B-8EE5-D7473C8134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D5B-ADDD-4C3E-83CB-D09BFB8509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850-A90C-4CD5-B05D-79D2FD9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F23-84C1-458B-9078-107CC09F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B88-FA58-4C12-AC4B-BFDD4721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26D-0331-4EC1-BE95-9C69C963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9FE2-B194-48E6-AC66-61729F6A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D05-B74B-422C-87E0-2632CAD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53E0-B0BC-4772-BF21-CE1E54C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3A95-AE84-428E-89BA-425463D5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8332-0F20-491B-B65A-A974E37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095E-5381-4F1A-89FE-8FABC23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AC35-A3AC-4118-A742-B1AF05F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AED-B011-4264-A705-416E35D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7135-BB78-4BDF-9CB7-1641FF28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090D-15AE-4C1E-B015-438D996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274-ED93-4516-A6ED-0D4B1D73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D31-5E73-4E42-9F82-BC180D6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2BA-F928-4BC9-8AEE-F54FBA2C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90E-39D1-416A-AD6E-CC39EFF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5D1-84C5-4016-95EF-8A3EF6D5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F61-7B5F-4927-A1B7-FD62E662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6E7-6EED-41D7-B4F7-D4B3FAB3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B05-A2C1-468C-A31A-C850AD5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81D-53F1-402A-BE7A-B7272F7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074-11A1-48CB-BE02-10C1542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D946-188B-4A65-96CA-6993E5A429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7DF-26BA-41C0-BD3A-6012B36A2C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ervice Char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How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Guaranteed standard ≠ Target standard (your promises ≠ your objectives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wo sets of Standards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relationship with the cli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services provid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deliver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Standards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clearly what the client needs to do to achieve a resul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what are their rights and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arantee staff manner and interpersonal skills: friendliness, helpfulness, respect, sensitivity to the clients’ individual needs, identifying themselves, explaining, listening carefully to th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mprove your standards of relationship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b) Quality of Services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asically, a service is an answer to a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lpful (e.g. prompt referrals, availability of help in emergenc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ear (e.g. of letters, forms and publications, processes and other product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derstandable (by people with disabilit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urate (e.g. of advice, information, payments or filled ord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let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priate (e.g. fit to clients’ needs and circumstanc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d) Quality of delivery (Q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qual acces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ffordable cost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cial, cultural and environmental accepta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When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The timeliness of service delive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efine how much time a client will wait for a service to be deliv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Quantitative stand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ding to client contacts (e.g. letters, emails, phone message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ng (e.g. registration, application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ergency service (e.g. help where no appointment has been mad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lephone service (e.g. time to get through to a staff member, phone appointment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laint re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How to find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early state all channels of Communications between Court and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give feedback on the charter itsel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) Clients right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review and appe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lodge a complai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privacy and confidentialit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have inform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access services, facilities and information in a manner which meets thei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treat Court staff with courtes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ttend scheduled meetings punctuall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respond to requests for information by the agency accurately, thoroughly and in a timely mann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bide by any legal requirements and other obligations that clients are to meet in order to be eligible for services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Be open to Feedbacks and Complaints…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service charter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ain information on the feedback and complaints processes and make clear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agency welcomes feedback (complaints, compliments and suggestion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make a complaint, including relevant postal and email addresses, and phone and fax numbers. Include options (e.g. in person, comment card, on-line feedback form, by phone, letter, a TTY phone number for people who are deaf, hearing or speech impai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give feedback specifically about the Charter itself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feedback and complaints handling process is accessible, easy to use and fre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Court records data on complaints, compliments and suggestions and this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sed to help improve client servic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using the agency’s complaint handling system does not prevent the client from using appeal mechanisms at any time and should list contact details for these servic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5734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sometimes you’ll get Compliments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 2: How to develop a Servic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iagram 6"/>
          <p:cNvGrpSpPr/>
          <p:nvPr/>
        </p:nvGrpSpPr>
        <p:grpSpPr>
          <a:xfrm>
            <a:off x="1747440" y="1302480"/>
            <a:ext cx="5643360" cy="5394960"/>
            <a:chOff x="1747440" y="1302480"/>
            <a:chExt cx="5643360" cy="5394960"/>
          </a:xfrm>
        </p:grpSpPr>
        <p:sp>
          <p:nvSpPr>
            <p:cNvPr id="203" name="_s1028"/>
            <p:cNvSpPr/>
            <p:nvPr/>
          </p:nvSpPr>
          <p:spPr>
            <a:xfrm>
              <a:off x="3082680" y="1302480"/>
              <a:ext cx="2975040" cy="299880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4320000">
              <a:off x="4013280" y="2005200"/>
              <a:ext cx="2998800" cy="297468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8640000">
              <a:off x="3665160" y="3110760"/>
              <a:ext cx="2974680" cy="299844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 rot="12960000">
              <a:off x="2498040" y="3110400"/>
              <a:ext cx="2975040" cy="299844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 rot="17280000">
              <a:off x="2125800" y="2004840"/>
              <a:ext cx="2998800" cy="29750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5333760" y="1432080"/>
              <a:ext cx="10940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Draf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6145200" y="39427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Promo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35"/>
            <p:cNvSpPr/>
            <p:nvPr/>
          </p:nvSpPr>
          <p:spPr>
            <a:xfrm>
              <a:off x="2712960" y="14335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nsul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36"/>
            <p:cNvSpPr/>
            <p:nvPr/>
          </p:nvSpPr>
          <p:spPr>
            <a:xfrm>
              <a:off x="4025880" y="549576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llecting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feedback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904760" y="3944160"/>
              <a:ext cx="10940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Review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Le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“Public Service”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vided by a public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the general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citiz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qu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am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Consul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eparing a service charter, Court Administrator should consult with clients, staff and other key stakeholders in relation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lecting service standards for inclusion in the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tting service guarante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termining the amount and level of detail in a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ciding how performance against the Charter standards and commitments will be measured and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11280" y="595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 + Stakeholders = Talk to and Mee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Charter format and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= make it readable and understandable by every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in language style of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oid legal jarg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concise, straightforward and user-friendly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essible forma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uages other than Ukraini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ible websi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dio t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rge 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design that meets the needs of a wide client base (i.e., good contrast between text and background; use of colour; size of text; and no background images under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3 Launch and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high-profile launch by the Minister or appropriate dignita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media campaign and an ongoing communications strate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unication and distribution of the Service Charter to all staff, clients and stakehold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ributing the charter to all client contact poi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lacing it on the Court’s Web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Maintenance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Service Charter is a living document of a living organ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lessons is a way to improve your service, and the Charter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learned since the first SC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improved in the wh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es it still reflects realit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Court’s approach to clien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needs and priorities of the clients and key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current content accur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format, design and availability what client nee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was the feedback collected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 we have to make changes to the complaint handling proce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nito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’s feedback an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edback on the 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2692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nd report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ervice Charter is a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your Court’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the needs of your clients and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ublic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ting the basic rights of the cit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d principles governing the provision of services to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a public off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statement, not a legal docu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learly identifies the Court, the Court’s purpose, its client base and its servic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ablishes channels of communication between the Court and its cli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 out the agency’s client service standards and client rights and responsibil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s ways to obtain feedback and handling client enquiries and complai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developed in consultation with clients, staff and other key stakehold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periodically monitored and review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asu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and impro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 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rmations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 Standar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hannels of Communic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s’ rights and responsibil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’s feedback and complai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Who w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itle that clearly identifies the document as a Client Service Char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ame of people working i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Vi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clients (actual or potenti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stakehol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ents Vs.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ents: those to whom Court directly provides services (internal + exter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s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keholders: those who have an interest in the successful operation of the Co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munit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her government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siness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ople with additional or diver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55640" y="522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ercise: try map the Clients and Stakeholders of your Cou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W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ment of purpose of the Char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ist of 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date of Charter publicatio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ate of the next review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A Mission Statement is …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2:46Z</dcterms:modified>
  <cp:revision>9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