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80C2-383D-4C17-A776-995812FF2A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F9D2-DBB2-4F3B-B609-9F40D92885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stolarna i land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a denna vara 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A68B-E320-4B21-A493-3A2CF06C67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stolarna i land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a denna vara 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1CE4-C368-4F5D-B983-0519CFA967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08C9917-D86D-4DF1-A354-C21F7E2BF59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During 2008 the District courts and the Courts of appeal did not achieve the Governments objective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ompared to 2007 both the District courts and the Courts of Appeal improved the time for resolving civil cases and criminal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During 2008 the District courts and the Courts of appeal did not achieve the Governments objective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ompared to 2007 both the District courts and the Courts of Appeal improved the time for resolving civil cases and criminal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During 2008 the District courts and the Courts of appeal did not achieve the Governments objective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ompared to 2007 both the District courts and the Courts of Appeal improved the time for resolving civil cases and criminal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FEF8-851F-43E6-8290-5D39E784EC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2AB1C8C-8271-4E23-9609-8CC330B109E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During 2008 the District courts and the Courts of appeal did not achieve the Governments objective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ompared to 2007 both the District courts and the Courts of Appeal improved the time for resolving civil cases and criminal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During 2008 the District courts and the Courts of appeal did not achieve the Governments objective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ompared to 2007 both the District courts and the Courts of Appeal improved the time for resolving civil cases and criminal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During 2008 the District courts and the Courts of appeal did not achieve the Governments objective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ompared to 2007 both the District courts and the Courts of Appeal improved the time for resolving civil cases and criminal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FB16-0434-4BB3-A55A-17333DA633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EF65-D98F-4836-9F9A-10EE9658FD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B42D-2F21-41FD-B608-7CCEA218B5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ssch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CE8A-0BAA-460D-9075-2DEF7D6A20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stolarna i land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a denna vara 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0059-A16B-4F18-B407-803BEAF685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stolarna i land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a denna vara 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CA08-4A8D-4333-8F50-999D480392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stolarna i land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a denna vara 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1570-C296-446C-ABF6-B967FE27DB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stolarna i land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a denna vara 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B61B-3055-484C-9398-7DADC577FA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A5BD-EDA7-4A7E-B3CC-CF463FC2B719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The statistics by types in the administrative courts are on a very detailed lev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In the analysis, follow-ups and the allocation of resources the following groups are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C043-61D3-4656-A355-B400FC2ED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540D-AE72-4112-91A2-C500F16C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5D9E-DD52-484C-A899-67ACEE0F2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A441-B339-4F4C-8AF3-012DC3648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A39C-1BFB-45D2-ACA3-D66BDF3D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09D1-3A7E-4A09-8CB0-8D35F704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B1ED-9162-4003-8EED-BA6ED050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B1C7-68FF-41D7-A988-AD5496F2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BE79-1B2E-4394-A1B4-A1FB297C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B2CA-2DBF-4438-9105-DE6915B1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F7B1-4C7A-4575-BB1F-D6278DB6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7A70-E29F-4386-AC8B-30C983D0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F8CD-968B-4958-A297-4C8E7CAD5C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13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Судова влада у Швеці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19280" y="2421000"/>
            <a:ext cx="6184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Гьоран Боді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dov_center"/>
          <p:cNvPicPr/>
          <p:nvPr/>
        </p:nvPicPr>
        <p:blipFill>
          <a:blip r:embed="rId1"/>
          <a:stretch/>
        </p:blipFill>
        <p:spPr>
          <a:xfrm>
            <a:off x="3352680" y="4038480"/>
            <a:ext cx="2305080" cy="17528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2286000" y="59436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Судоустрі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Швецькі су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2"/>
          <p:cNvSpPr/>
          <p:nvPr/>
        </p:nvSpPr>
        <p:spPr>
          <a:xfrm>
            <a:off x="154080" y="903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477360"/>
            <a:ext cx="7162920" cy="77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гальні адміністративні суд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пеляційні адміністративні су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611280" y="1916280"/>
            <a:ext cx="4248000" cy="17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4816440" y="12600"/>
            <a:ext cx="3379680" cy="659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Object 6"/>
          <p:cNvGraphicFramePr/>
          <p:nvPr/>
        </p:nvGraphicFramePr>
        <p:xfrm>
          <a:off x="838080" y="990720"/>
          <a:ext cx="390600" cy="37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990720"/>
                    <a:ext cx="39060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"/>
          <p:cNvSpPr/>
          <p:nvPr/>
        </p:nvSpPr>
        <p:spPr>
          <a:xfrm>
            <a:off x="154080" y="903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6934320" cy="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гальні адміністративні суди</a:t>
            </a:r>
            <a:br>
              <a:rPr sz="40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щий адміністративний с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611280" y="1916280"/>
            <a:ext cx="4248000" cy="17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4844880" y="19080"/>
            <a:ext cx="3354480" cy="6637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Object 6"/>
          <p:cNvGraphicFramePr/>
          <p:nvPr/>
        </p:nvGraphicFramePr>
        <p:xfrm>
          <a:off x="914400" y="990720"/>
          <a:ext cx="446040" cy="39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990720"/>
                    <a:ext cx="44604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Завдання від уряду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75 %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кримінальних справ в районних судах та апеляційних судах повинні бути закриті в межах 5 місяц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75 %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цивільних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справ в районих судах та апеляційних судах повинні бути закриті в межах 7 місяц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75 %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справ в адміністративних судах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овинні бути закриті в межах 6 місяц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250920" y="1484280"/>
          <a:ext cx="8569080" cy="4173480"/>
        </p:xfrm>
        <a:graphic>
          <a:graphicData uri="http://schemas.openxmlformats.org/drawingml/2006/table">
            <a:tbl>
              <a:tblPr/>
              <a:tblGrid>
                <a:gridCol w="4321080"/>
                <a:gridCol w="1440000"/>
                <a:gridCol w="936360"/>
                <a:gridCol w="936720"/>
                <a:gridCol w="93492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ізновид суду</a:t>
                      </a: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тегорія спра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aea8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ас в місяцях для закриття </a:t>
                      </a: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 %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ра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ae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рядові завд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зульта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1036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йонні суд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ивільні справ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имінальні справ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24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пеляційні суд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ивільні справ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имінальні справ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0</a:t>
                      </a:r>
                      <a:br>
                        <a:rPr sz="2000"/>
                      </a:b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0584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бота 2008 (згідно Урядовим завдання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250920" y="1557360"/>
          <a:ext cx="8569080" cy="4008240"/>
        </p:xfrm>
        <a:graphic>
          <a:graphicData uri="http://schemas.openxmlformats.org/drawingml/2006/table">
            <a:tbl>
              <a:tblPr/>
              <a:tblGrid>
                <a:gridCol w="4321080"/>
                <a:gridCol w="1440000"/>
                <a:gridCol w="936360"/>
                <a:gridCol w="936720"/>
                <a:gridCol w="93492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ізновид суду</a:t>
                      </a: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тегорія спра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aea8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ас в місяцях для закриття </a:t>
                      </a: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 %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ра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ae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рядові завд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зульта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іністративні суд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01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пеляційні адміністративні суд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0584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бота 2008 (згідно Урядовим завдання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395280" y="1370160"/>
            <a:ext cx="8748720" cy="5103720"/>
            <a:chOff x="395280" y="1370160"/>
            <a:chExt cx="8748720" cy="5103720"/>
          </a:xfrm>
        </p:grpSpPr>
        <p:grpSp>
          <p:nvGrpSpPr>
            <p:cNvPr id="126" name="Group 3"/>
            <p:cNvGrpSpPr/>
            <p:nvPr/>
          </p:nvGrpSpPr>
          <p:grpSpPr>
            <a:xfrm>
              <a:off x="395280" y="1370160"/>
              <a:ext cx="8748720" cy="5103720"/>
              <a:chOff x="395280" y="1370160"/>
              <a:chExt cx="8748720" cy="5103720"/>
            </a:xfrm>
          </p:grpSpPr>
          <p:pic>
            <p:nvPicPr>
              <p:cNvPr id="127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469800" y="1521000"/>
                <a:ext cx="8674200" cy="495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Rectangle 5"/>
              <p:cNvSpPr/>
              <p:nvPr/>
            </p:nvSpPr>
            <p:spPr>
              <a:xfrm>
                <a:off x="395280" y="1370160"/>
                <a:ext cx="2612880" cy="671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AutoShape 6"/>
            <p:cNvSpPr/>
            <p:nvPr/>
          </p:nvSpPr>
          <p:spPr>
            <a:xfrm rot="1706400">
              <a:off x="5333760" y="3044520"/>
              <a:ext cx="952560" cy="431640"/>
            </a:xfrm>
            <a:prstGeom prst="parallelogram">
              <a:avLst>
                <a:gd name="adj" fmla="val 70271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7"/>
            <p:cNvSpPr/>
            <p:nvPr/>
          </p:nvSpPr>
          <p:spPr>
            <a:xfrm rot="1706400">
              <a:off x="3924000" y="2420640"/>
              <a:ext cx="1245960" cy="431640"/>
            </a:xfrm>
            <a:prstGeom prst="parallelogram">
              <a:avLst>
                <a:gd name="adj" fmla="val 67981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моги до приміщення су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 rot="945600">
            <a:off x="4896000" y="5691240"/>
            <a:ext cx="934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0"/>
          <p:cNvSpPr/>
          <p:nvPr/>
        </p:nvSpPr>
        <p:spPr>
          <a:xfrm rot="10800000">
            <a:off x="395280" y="1676520"/>
            <a:ext cx="2016000" cy="1218960"/>
          </a:xfrm>
          <a:prstGeom prst="wedgeRectCallout">
            <a:avLst>
              <a:gd name="adj1" fmla="val -101421"/>
              <a:gd name="adj2" fmla="val -79300"/>
            </a:avLst>
          </a:prstGeom>
          <a:solidFill>
            <a:srgbClr val="eaeaea">
              <a:alpha val="55000"/>
            </a:srgbClr>
          </a:solidFill>
          <a:ln w="9360">
            <a:solidFill>
              <a:srgbClr val="9900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15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кремі кімнати для прокурорів, адвокатів, свідків, позивачів, і т.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1"/>
          <p:cNvSpPr/>
          <p:nvPr/>
        </p:nvSpPr>
        <p:spPr>
          <a:xfrm rot="10800000">
            <a:off x="3123720" y="1142280"/>
            <a:ext cx="2590920" cy="988920"/>
          </a:xfrm>
          <a:prstGeom prst="wedgeRectCallout">
            <a:avLst>
              <a:gd name="adj1" fmla="val -6560"/>
              <a:gd name="adj2" fmla="val -102810"/>
            </a:avLst>
          </a:prstGeom>
          <a:solidFill>
            <a:srgbClr val="eaeaea">
              <a:alpha val="55000"/>
            </a:srgbClr>
          </a:solidFill>
          <a:ln w="9360">
            <a:solidFill>
              <a:srgbClr val="9900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15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імнати для обговорення, переговорів і пі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5867280" y="5013360"/>
            <a:ext cx="1152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Trebuchet MS"/>
              </a:rPr>
              <a:t>Судова зал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48000" y="4005360"/>
            <a:ext cx="1152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Trebuchet MS"/>
              </a:rPr>
              <a:t>Приймальн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4"/>
          <p:cNvSpPr/>
          <p:nvPr/>
        </p:nvSpPr>
        <p:spPr>
          <a:xfrm>
            <a:off x="3995640" y="5516640"/>
            <a:ext cx="2016360" cy="10080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5"/>
          <p:cNvGrpSpPr/>
          <p:nvPr/>
        </p:nvGrpSpPr>
        <p:grpSpPr>
          <a:xfrm>
            <a:off x="6443640" y="1700280"/>
            <a:ext cx="2087640" cy="1439640"/>
            <a:chOff x="6443640" y="1700280"/>
            <a:chExt cx="2087640" cy="1439640"/>
          </a:xfrm>
        </p:grpSpPr>
        <p:sp>
          <p:nvSpPr>
            <p:cNvPr id="139" name="AutoShape 16"/>
            <p:cNvSpPr/>
            <p:nvPr/>
          </p:nvSpPr>
          <p:spPr>
            <a:xfrm rot="10800000">
              <a:off x="6603480" y="1969560"/>
              <a:ext cx="1847880" cy="1169640"/>
            </a:xfrm>
            <a:prstGeom prst="wedgeRectCallout">
              <a:avLst>
                <a:gd name="adj1" fmla="val 38657"/>
                <a:gd name="adj2" fmla="val -261592"/>
              </a:avLst>
            </a:prstGeom>
            <a:solidFill>
              <a:srgbClr val="dddddd">
                <a:alpha val="25000"/>
              </a:srgbClr>
            </a:solidFill>
            <a:ln w="9360">
              <a:solidFill>
                <a:srgbClr val="990033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17"/>
            <p:cNvSpPr/>
            <p:nvPr/>
          </p:nvSpPr>
          <p:spPr>
            <a:xfrm rot="10800000">
              <a:off x="6603480" y="1969920"/>
              <a:ext cx="1847880" cy="1078560"/>
            </a:xfrm>
            <a:prstGeom prst="wedgeRectCallout">
              <a:avLst>
                <a:gd name="adj1" fmla="val 54462"/>
                <a:gd name="adj2" fmla="val -155217"/>
              </a:avLst>
            </a:prstGeom>
            <a:solidFill>
              <a:srgbClr val="dddddd">
                <a:alpha val="25000"/>
              </a:srgbClr>
            </a:solidFill>
            <a:ln w="9360">
              <a:solidFill>
                <a:srgbClr val="990033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Group 18"/>
            <p:cNvGrpSpPr/>
            <p:nvPr/>
          </p:nvGrpSpPr>
          <p:grpSpPr>
            <a:xfrm>
              <a:off x="6443640" y="1700280"/>
              <a:ext cx="2087640" cy="1439640"/>
              <a:chOff x="6443640" y="1700280"/>
              <a:chExt cx="2087640" cy="1439640"/>
            </a:xfrm>
          </p:grpSpPr>
          <p:sp>
            <p:nvSpPr>
              <p:cNvPr id="142" name="AutoShape 19"/>
              <p:cNvSpPr/>
              <p:nvPr/>
            </p:nvSpPr>
            <p:spPr>
              <a:xfrm rot="10800000">
                <a:off x="6505200" y="1874520"/>
                <a:ext cx="1855800" cy="1227240"/>
              </a:xfrm>
              <a:prstGeom prst="wedgeRectCallout">
                <a:avLst>
                  <a:gd name="adj1" fmla="val -31268"/>
                  <a:gd name="adj2" fmla="val -202060"/>
                </a:avLst>
              </a:prstGeom>
              <a:solidFill>
                <a:srgbClr val="dddddd">
                  <a:alpha val="25000"/>
                </a:srgbClr>
              </a:solidFill>
              <a:ln w="9360">
                <a:solidFill>
                  <a:srgbClr val="990033">
                    <a:alpha val="4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20"/>
              <p:cNvSpPr/>
              <p:nvPr/>
            </p:nvSpPr>
            <p:spPr>
              <a:xfrm>
                <a:off x="6443640" y="1700280"/>
                <a:ext cx="2087640" cy="143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AutoShape 21"/>
            <p:cNvSpPr/>
            <p:nvPr/>
          </p:nvSpPr>
          <p:spPr>
            <a:xfrm rot="10800000">
              <a:off x="6523200" y="1879200"/>
              <a:ext cx="2008080" cy="1260720"/>
            </a:xfrm>
            <a:prstGeom prst="wedgeRectCallout">
              <a:avLst>
                <a:gd name="adj1" fmla="val 114106"/>
                <a:gd name="adj2" fmla="val -185814"/>
              </a:avLst>
            </a:prstGeom>
            <a:solidFill>
              <a:srgbClr val="dddddd">
                <a:alpha val="25000"/>
              </a:srgbClr>
            </a:solidFill>
            <a:ln w="9360">
              <a:solidFill>
                <a:srgbClr val="990033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20000"/>
                </a:lnSpc>
                <a:spcBef>
                  <a:spcPts val="400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Має бути 4 входи до залу суду для учасників процес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AutoShape 22"/>
          <p:cNvSpPr/>
          <p:nvPr/>
        </p:nvSpPr>
        <p:spPr>
          <a:xfrm rot="10800000">
            <a:off x="1042920" y="5444640"/>
            <a:ext cx="1944720" cy="576360"/>
          </a:xfrm>
          <a:prstGeom prst="wedgeRectCallout">
            <a:avLst>
              <a:gd name="adj1" fmla="val -46981"/>
              <a:gd name="adj2" fmla="val 319421"/>
            </a:avLst>
          </a:prstGeom>
          <a:solidFill>
            <a:srgbClr val="eaeaea">
              <a:alpha val="55000"/>
            </a:srgbClr>
          </a:solidFill>
          <a:ln w="9360">
            <a:solidFill>
              <a:srgbClr val="9900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5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Головна приймаль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моги до приміщення су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904760"/>
            <a:ext cx="820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абінети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повинні бути окремими від залів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засідань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іякі відвідувачі не мають доступу до цих приміщ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Дизайн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приміщень  має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бути гнучким,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 метою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забезпеч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ння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лежних умов для праці та  пербудов (в разаінеохідності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бінети  мають бути пристосовані  до роботи  структурних підрозділів – не до людини або поса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иміщення для працівників апарату мають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сприяти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обмін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інформаці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єю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між колегами,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мають бути  приміщення  для  проведення нарад,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зустрічей,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берігання документації, відпочинку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і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154080" y="460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611280" y="1413000"/>
            <a:ext cx="820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Робочі кабін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362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Роль Національної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удової 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Адміністрації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Швеції 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(SN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ціональна Судова Адміністрація Швеції – орган державної влади підпорядкований Уряду Швец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ціональна Судова Адміністрація не може втручатись в процес здійснення судочинства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суди і судді незалежні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Головн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им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завданн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ям є здійснення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координаці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ї та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рішення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пробле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судової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лади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Швеції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Це включає розвиток персоналу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навчання суддів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а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парату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суду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формац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йне забезпечення діяльності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судів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забезпеч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ення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п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міщеннями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розподіл ресурсів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бір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судов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ї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статистик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итання бюджету та фінансовий аналі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6988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ціональна Судова Адміністрація Швеції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Організаційна струк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154080" y="460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438120" y="1484280"/>
            <a:ext cx="8454960" cy="4969080"/>
            <a:chOff x="438120" y="1484280"/>
            <a:chExt cx="8454960" cy="4969080"/>
          </a:xfrm>
        </p:grpSpPr>
        <p:sp>
          <p:nvSpPr>
            <p:cNvPr id="155" name="AutoShape 5"/>
            <p:cNvSpPr/>
            <p:nvPr/>
          </p:nvSpPr>
          <p:spPr>
            <a:xfrm>
              <a:off x="6414840" y="1484280"/>
              <a:ext cx="1844640" cy="57636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rebuchet MS"/>
                </a:rPr>
                <a:t>Appoint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rebuchet MS"/>
                </a:rPr>
                <a:t>Proposals  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6414840" y="2492640"/>
              <a:ext cx="1844640" cy="57600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rebuchet MS"/>
                </a:rPr>
                <a:t>Law Clerk 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7"/>
            <p:cNvSpPr/>
            <p:nvPr/>
          </p:nvSpPr>
          <p:spPr>
            <a:xfrm flipH="1">
              <a:off x="4686120" y="1987560"/>
              <a:ext cx="6480" cy="351792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8"/>
            <p:cNvSpPr/>
            <p:nvPr/>
          </p:nvSpPr>
          <p:spPr>
            <a:xfrm>
              <a:off x="3725640" y="2421000"/>
              <a:ext cx="1871640" cy="576360"/>
            </a:xfrm>
            <a:prstGeom prst="roundRect">
              <a:avLst>
                <a:gd name="adj" fmla="val 16667"/>
              </a:avLst>
            </a:prstGeom>
            <a:solidFill>
              <a:srgbClr val="e97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Голова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9"/>
            <p:cNvSpPr/>
            <p:nvPr/>
          </p:nvSpPr>
          <p:spPr>
            <a:xfrm>
              <a:off x="461880" y="5721480"/>
              <a:ext cx="1844640" cy="708120"/>
            </a:xfrm>
            <a:prstGeom prst="roundRect">
              <a:avLst>
                <a:gd name="adj" fmla="val 16667"/>
              </a:avLst>
            </a:prstGeom>
            <a:solidFill>
              <a:srgbClr val="006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Департамент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з розвитку персонал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(навчання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10"/>
            <p:cNvSpPr/>
            <p:nvPr/>
          </p:nvSpPr>
          <p:spPr>
            <a:xfrm>
              <a:off x="2639880" y="5721480"/>
              <a:ext cx="1805040" cy="712800"/>
            </a:xfrm>
            <a:prstGeom prst="roundRect">
              <a:avLst>
                <a:gd name="adj" fmla="val 16667"/>
              </a:avLst>
            </a:prstGeom>
            <a:solidFill>
              <a:srgbClr val="006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Департамент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Управління кадра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11"/>
            <p:cNvSpPr/>
            <p:nvPr/>
          </p:nvSpPr>
          <p:spPr>
            <a:xfrm>
              <a:off x="4868640" y="5721480"/>
              <a:ext cx="1866960" cy="731880"/>
            </a:xfrm>
            <a:prstGeom prst="roundRect">
              <a:avLst>
                <a:gd name="adj" fmla="val 16667"/>
              </a:avLst>
            </a:prstGeom>
            <a:solidFill>
              <a:srgbClr val="006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Фінансови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департамен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12"/>
            <p:cNvSpPr/>
            <p:nvPr/>
          </p:nvSpPr>
          <p:spPr>
            <a:xfrm>
              <a:off x="7072200" y="5720040"/>
              <a:ext cx="1811160" cy="722160"/>
            </a:xfrm>
            <a:prstGeom prst="roundRect">
              <a:avLst>
                <a:gd name="adj" fmla="val 16667"/>
              </a:avLst>
            </a:prstGeom>
            <a:solidFill>
              <a:srgbClr val="006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Департамент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інформаційни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технологі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3"/>
            <p:cNvSpPr/>
            <p:nvPr/>
          </p:nvSpPr>
          <p:spPr>
            <a:xfrm>
              <a:off x="1373040" y="5510160"/>
              <a:ext cx="6626160" cy="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4"/>
            <p:cNvSpPr/>
            <p:nvPr/>
          </p:nvSpPr>
          <p:spPr>
            <a:xfrm>
              <a:off x="1373040" y="5516640"/>
              <a:ext cx="0" cy="2160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5"/>
            <p:cNvSpPr/>
            <p:nvPr/>
          </p:nvSpPr>
          <p:spPr>
            <a:xfrm>
              <a:off x="3533760" y="5516640"/>
              <a:ext cx="0" cy="2160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6"/>
            <p:cNvSpPr/>
            <p:nvPr/>
          </p:nvSpPr>
          <p:spPr>
            <a:xfrm>
              <a:off x="5838480" y="5516640"/>
              <a:ext cx="0" cy="2160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7"/>
            <p:cNvSpPr/>
            <p:nvPr/>
          </p:nvSpPr>
          <p:spPr>
            <a:xfrm>
              <a:off x="7999200" y="5516640"/>
              <a:ext cx="0" cy="2160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8"/>
            <p:cNvSpPr/>
            <p:nvPr/>
          </p:nvSpPr>
          <p:spPr>
            <a:xfrm>
              <a:off x="1373040" y="4364280"/>
              <a:ext cx="6626160" cy="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9"/>
            <p:cNvSpPr/>
            <p:nvPr/>
          </p:nvSpPr>
          <p:spPr>
            <a:xfrm>
              <a:off x="1373040" y="4370400"/>
              <a:ext cx="0" cy="2160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0"/>
            <p:cNvSpPr/>
            <p:nvPr/>
          </p:nvSpPr>
          <p:spPr>
            <a:xfrm>
              <a:off x="3533760" y="4370400"/>
              <a:ext cx="0" cy="2160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1"/>
            <p:cNvSpPr/>
            <p:nvPr/>
          </p:nvSpPr>
          <p:spPr>
            <a:xfrm>
              <a:off x="5838480" y="4370400"/>
              <a:ext cx="0" cy="2160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22"/>
            <p:cNvSpPr/>
            <p:nvPr/>
          </p:nvSpPr>
          <p:spPr>
            <a:xfrm>
              <a:off x="7999200" y="4370400"/>
              <a:ext cx="0" cy="2160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23"/>
            <p:cNvSpPr/>
            <p:nvPr/>
          </p:nvSpPr>
          <p:spPr>
            <a:xfrm>
              <a:off x="4894200" y="4567320"/>
              <a:ext cx="1849320" cy="733320"/>
            </a:xfrm>
            <a:prstGeom prst="roundRect">
              <a:avLst>
                <a:gd name="adj" fmla="val 16667"/>
              </a:avLst>
            </a:prstGeom>
            <a:solidFill>
              <a:srgbClr val="006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Адміністративни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департамен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24"/>
            <p:cNvSpPr/>
            <p:nvPr/>
          </p:nvSpPr>
          <p:spPr>
            <a:xfrm>
              <a:off x="2619360" y="4559400"/>
              <a:ext cx="1820520" cy="720720"/>
            </a:xfrm>
            <a:prstGeom prst="roundRect">
              <a:avLst>
                <a:gd name="adj" fmla="val 16667"/>
              </a:avLst>
            </a:prstGeom>
            <a:solidFill>
              <a:srgbClr val="006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Департамент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зв'язків з ЗМІ 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громадскісьтю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25"/>
            <p:cNvSpPr/>
            <p:nvPr/>
          </p:nvSpPr>
          <p:spPr>
            <a:xfrm>
              <a:off x="438120" y="4546800"/>
              <a:ext cx="1844640" cy="720720"/>
            </a:xfrm>
            <a:prstGeom prst="roundRect">
              <a:avLst>
                <a:gd name="adj" fmla="val 16667"/>
              </a:avLst>
            </a:prstGeom>
            <a:solidFill>
              <a:srgbClr val="006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Юридичн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департамен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26"/>
            <p:cNvSpPr/>
            <p:nvPr/>
          </p:nvSpPr>
          <p:spPr>
            <a:xfrm>
              <a:off x="7048440" y="4572000"/>
              <a:ext cx="1844640" cy="722520"/>
            </a:xfrm>
            <a:prstGeom prst="roundRect">
              <a:avLst>
                <a:gd name="adj" fmla="val 16667"/>
              </a:avLst>
            </a:prstGeom>
            <a:solidFill>
              <a:srgbClr val="006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Департамент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безпе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27"/>
            <p:cNvSpPr/>
            <p:nvPr/>
          </p:nvSpPr>
          <p:spPr>
            <a:xfrm>
              <a:off x="3733560" y="1484280"/>
              <a:ext cx="1844640" cy="576360"/>
            </a:xfrm>
            <a:prstGeom prst="roundRect">
              <a:avLst>
                <a:gd name="adj" fmla="val 16667"/>
              </a:avLst>
            </a:prstGeom>
            <a:solidFill>
              <a:srgbClr val="e97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Правлінн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8"/>
            <p:cNvSpPr/>
            <p:nvPr/>
          </p:nvSpPr>
          <p:spPr>
            <a:xfrm>
              <a:off x="4470120" y="3861000"/>
              <a:ext cx="432000" cy="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29"/>
            <p:cNvSpPr/>
            <p:nvPr/>
          </p:nvSpPr>
          <p:spPr>
            <a:xfrm>
              <a:off x="2635200" y="3540240"/>
              <a:ext cx="1844640" cy="576360"/>
            </a:xfrm>
            <a:prstGeom prst="roundRect">
              <a:avLst>
                <a:gd name="adj" fmla="val 16667"/>
              </a:avLst>
            </a:prstGeom>
            <a:solidFill>
              <a:srgbClr val="ee95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Дисциплінарна ра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30"/>
            <p:cNvSpPr/>
            <p:nvPr/>
          </p:nvSpPr>
          <p:spPr>
            <a:xfrm>
              <a:off x="4876560" y="3524400"/>
              <a:ext cx="1844640" cy="576360"/>
            </a:xfrm>
            <a:prstGeom prst="roundRect">
              <a:avLst>
                <a:gd name="adj" fmla="val 16667"/>
              </a:avLst>
            </a:prstGeom>
            <a:solidFill>
              <a:srgbClr val="ee95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Управлінн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нутрішньо</a:t>
              </a: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го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аудит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Адміністративна система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Шве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ції</a:t>
            </a: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Схема 5" descr=""/>
          <p:cNvPicPr/>
          <p:nvPr/>
        </p:nvPicPr>
        <p:blipFill>
          <a:blip r:embed="rId1"/>
          <a:stretch/>
        </p:blipFill>
        <p:spPr>
          <a:xfrm>
            <a:off x="414360" y="1603440"/>
            <a:ext cx="8497800" cy="41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250920" y="765000"/>
            <a:ext cx="8893080" cy="511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219320" y="1828800"/>
            <a:ext cx="1828800" cy="838080"/>
          </a:xfrm>
          <a:prstGeom prst="rect">
            <a:avLst/>
          </a:prstGeom>
          <a:solidFill>
            <a:srgbClr val="eaeaea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Trebuchet MS"/>
              </a:rPr>
              <a:t>Суди загально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Trebuchet MS"/>
              </a:rPr>
              <a:t>юрисдикці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6095880" y="1752480"/>
            <a:ext cx="2743200" cy="990720"/>
          </a:xfrm>
          <a:prstGeom prst="rect">
            <a:avLst/>
          </a:prstGeom>
          <a:solidFill>
            <a:srgbClr val="eaeaea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Trebuchet MS"/>
              </a:rPr>
              <a:t>Загальні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Trebuchet MS"/>
              </a:rPr>
              <a:t>адміністраивні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uk-UA" sz="1500" spc="-1" strike="noStrike">
                <a:solidFill>
                  <a:srgbClr val="000000"/>
                </a:solidFill>
                <a:latin typeface="Trebuchet MS"/>
              </a:rPr>
              <a:t>суд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1219320" y="2666880"/>
            <a:ext cx="1828800" cy="762120"/>
          </a:xfrm>
          <a:prstGeom prst="rect">
            <a:avLst/>
          </a:prstGeom>
          <a:solidFill>
            <a:srgbClr val="eaeaea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Верховний су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6095880" y="2666880"/>
            <a:ext cx="2743200" cy="762120"/>
          </a:xfrm>
          <a:prstGeom prst="rect">
            <a:avLst/>
          </a:prstGeom>
          <a:solidFill>
            <a:srgbClr val="eaeaea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Вищи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адміністративни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су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1219320" y="3429000"/>
            <a:ext cx="1828800" cy="762120"/>
          </a:xfrm>
          <a:prstGeom prst="rect">
            <a:avLst/>
          </a:prstGeom>
          <a:solidFill>
            <a:srgbClr val="eaeaea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Апеляційні суди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(6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1219320" y="4191120"/>
            <a:ext cx="1828800" cy="761760"/>
          </a:xfrm>
          <a:prstGeom prst="rect">
            <a:avLst/>
          </a:prstGeom>
          <a:solidFill>
            <a:srgbClr val="eaeaea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Районні суди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(49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6095880" y="3429000"/>
            <a:ext cx="2743200" cy="762120"/>
          </a:xfrm>
          <a:prstGeom prst="rect">
            <a:avLst/>
          </a:prstGeom>
          <a:solidFill>
            <a:srgbClr val="eaeaea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Апеляційні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адміністративні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суди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(4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6095880" y="4191120"/>
            <a:ext cx="2743200" cy="761760"/>
          </a:xfrm>
          <a:prstGeom prst="rect">
            <a:avLst/>
          </a:prstGeom>
          <a:solidFill>
            <a:srgbClr val="eaeaea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Адміністративні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суди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(12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4724280" y="5791320"/>
            <a:ext cx="2895840" cy="761760"/>
          </a:xfrm>
          <a:prstGeom prst="rect">
            <a:avLst/>
          </a:prstGeom>
          <a:solidFill>
            <a:srgbClr val="eaeaea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Агенства над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Юридичн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ї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допомог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3"/>
          <p:cNvSpPr/>
          <p:nvPr/>
        </p:nvSpPr>
        <p:spPr>
          <a:xfrm>
            <a:off x="1828800" y="5715000"/>
            <a:ext cx="2514600" cy="838080"/>
          </a:xfrm>
          <a:prstGeom prst="rect">
            <a:avLst/>
          </a:prstGeom>
          <a:solidFill>
            <a:srgbClr val="eaeaea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рибунал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 пита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вирішення спорів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орендних відносинах</a:t>
            </a:r>
            <a:r>
              <a:rPr b="0" lang="en-GB" sz="1400" spc="-1" strike="noStrike">
                <a:solidFill>
                  <a:srgbClr val="000000"/>
                </a:solidFill>
                <a:latin typeface="Trebuchet MS"/>
              </a:rPr>
              <a:t>(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1066680" y="5029200"/>
            <a:ext cx="213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ількість співробітників 3750,   з них 1150 судд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5"/>
          <p:cNvSpPr/>
          <p:nvPr/>
        </p:nvSpPr>
        <p:spPr>
          <a:xfrm>
            <a:off x="6095880" y="502920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ількість співробітників 2050,      з них 600 судд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3200400" y="5335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rebuchet MS"/>
              </a:rPr>
              <a:t>Система судової вла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7"/>
          <p:cNvGrpSpPr/>
          <p:nvPr/>
        </p:nvGrpSpPr>
        <p:grpSpPr>
          <a:xfrm>
            <a:off x="3657600" y="2438280"/>
            <a:ext cx="1828800" cy="2359080"/>
            <a:chOff x="3657600" y="2438280"/>
            <a:chExt cx="1828800" cy="2359080"/>
          </a:xfrm>
        </p:grpSpPr>
        <p:sp>
          <p:nvSpPr>
            <p:cNvPr id="70" name="Rectangle 18"/>
            <p:cNvSpPr/>
            <p:nvPr/>
          </p:nvSpPr>
          <p:spPr>
            <a:xfrm>
              <a:off x="3657600" y="2438280"/>
              <a:ext cx="1828800" cy="2359080"/>
            </a:xfrm>
            <a:prstGeom prst="rect">
              <a:avLst/>
            </a:prstGeom>
            <a:solidFill>
              <a:srgbClr val="eaeaea"/>
            </a:solidFill>
            <a:ln w="255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500" spc="-1" strike="noStrike">
                  <a:solidFill>
                    <a:srgbClr val="000000"/>
                  </a:solidFill>
                  <a:latin typeface="Trebuchet MS"/>
                </a:rPr>
                <a:t>Національн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500" spc="-1" strike="noStrike">
                  <a:solidFill>
                    <a:srgbClr val="000000"/>
                  </a:solidFill>
                  <a:latin typeface="Trebuchet MS"/>
                </a:rPr>
                <a:t>Судов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500" spc="-1" strike="noStrike">
                  <a:solidFill>
                    <a:srgbClr val="000000"/>
                  </a:solidFill>
                  <a:latin typeface="Trebuchet MS"/>
                </a:rPr>
                <a:t>Адміністрація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500" spc="-1" strike="noStrike">
                  <a:solidFill>
                    <a:srgbClr val="000000"/>
                  </a:solidFill>
                  <a:latin typeface="Trebuchet MS"/>
                </a:rPr>
                <a:t>Швеції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Picture 19" descr="dv-vapen"/>
            <p:cNvPicPr/>
            <p:nvPr/>
          </p:nvPicPr>
          <p:blipFill>
            <a:blip r:embed="rId1"/>
            <a:stretch/>
          </p:blipFill>
          <p:spPr>
            <a:xfrm>
              <a:off x="4254480" y="3471840"/>
              <a:ext cx="671400" cy="12128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"/>
          <p:cNvSpPr/>
          <p:nvPr/>
        </p:nvSpPr>
        <p:spPr>
          <a:xfrm>
            <a:off x="154080" y="903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3"/>
          <p:cNvSpPr/>
          <p:nvPr/>
        </p:nvSpPr>
        <p:spPr>
          <a:xfrm>
            <a:off x="611280" y="1844640"/>
            <a:ext cx="3600360" cy="158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64960" indent="-264960">
              <a:lnSpc>
                <a:spcPct val="100000"/>
              </a:lnSpc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Кримінальні справ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Цивільні справ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25600" y="517320"/>
            <a:ext cx="4960800" cy="153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Суди загальної юрисдикції</a:t>
            </a:r>
            <a:br>
              <a:rPr sz="40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айонний с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3"/>
          <a:stretch/>
        </p:blipFill>
        <p:spPr>
          <a:xfrm>
            <a:off x="4829040" y="9360"/>
            <a:ext cx="3340080" cy="659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Object 6"/>
          <p:cNvGraphicFramePr/>
          <p:nvPr/>
        </p:nvGraphicFramePr>
        <p:xfrm>
          <a:off x="1523880" y="1752480"/>
          <a:ext cx="287280" cy="276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7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1752480"/>
                    <a:ext cx="287280" cy="2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3399"/>
                </a:solidFill>
                <a:latin typeface="Arial"/>
              </a:rPr>
              <a:t>Різновиди справ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0" lang="uk-UA" sz="4000" spc="-1" strike="noStrike">
                <a:solidFill>
                  <a:srgbClr val="333399"/>
                </a:solidFill>
                <a:latin typeface="Arial"/>
              </a:rPr>
              <a:t>районні су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римінальні спра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вбивство, насильство, сексуальні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омогання та схожі злоч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пограбування, крадіжки і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хожі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злоч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Економічні злочини та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шахра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рібні правопорушення  (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прави розглядаються  визначеною особою – помічник судді, стажер на посаду судді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нші злоч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Цивільні спра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імейні спра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айнові спори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езначна ціна позову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нші цивільні спра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прави по навколишньому середовищ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айнові спори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2"/>
          <p:cNvSpPr/>
          <p:nvPr/>
        </p:nvSpPr>
        <p:spPr>
          <a:xfrm>
            <a:off x="154080" y="903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rcRect l="0" t="0" r="68313" b="21975"/>
          <a:stretch/>
        </p:blipFill>
        <p:spPr>
          <a:xfrm>
            <a:off x="250920" y="665280"/>
            <a:ext cx="3744720" cy="568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468360" y="1052640"/>
            <a:ext cx="3600360" cy="51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457200" y="2895480"/>
            <a:ext cx="4176720" cy="158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64960" indent="-264960">
              <a:lnSpc>
                <a:spcPct val="100000"/>
              </a:lnSpc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Кримінальні справ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Цивільні справ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525600" y="404640"/>
            <a:ext cx="5798880" cy="180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уди загально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юрисдикції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пеляційний с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5"/>
          <a:stretch/>
        </p:blipFill>
        <p:spPr>
          <a:xfrm>
            <a:off x="3962520" y="0"/>
            <a:ext cx="3303360" cy="659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Object 9"/>
          <p:cNvGraphicFramePr/>
          <p:nvPr/>
        </p:nvGraphicFramePr>
        <p:xfrm>
          <a:off x="1676520" y="1752480"/>
          <a:ext cx="358560" cy="314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8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76520" y="1752480"/>
                    <a:ext cx="35856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2"/>
          <p:cNvSpPr/>
          <p:nvPr/>
        </p:nvSpPr>
        <p:spPr>
          <a:xfrm>
            <a:off x="154080" y="903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0" r="68313" b="21975"/>
          <a:stretch/>
        </p:blipFill>
        <p:spPr>
          <a:xfrm>
            <a:off x="250920" y="665280"/>
            <a:ext cx="3744720" cy="568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468360" y="1052640"/>
            <a:ext cx="3600360" cy="51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611280" y="1844640"/>
            <a:ext cx="4248000" cy="158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64960" indent="-264960">
              <a:lnSpc>
                <a:spcPct val="100000"/>
              </a:lnSpc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Кримінальні справ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Цивільні справ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523800" y="404640"/>
            <a:ext cx="5343480" cy="172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уди загально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юрисдикції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ерховний с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"/>
          <p:cNvPicPr/>
          <p:nvPr/>
        </p:nvPicPr>
        <p:blipFill>
          <a:blip r:embed="rId5"/>
          <a:stretch/>
        </p:blipFill>
        <p:spPr>
          <a:xfrm>
            <a:off x="4846680" y="31680"/>
            <a:ext cx="3338640" cy="655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Object 9"/>
          <p:cNvGraphicFramePr/>
          <p:nvPr/>
        </p:nvGraphicFramePr>
        <p:xfrm>
          <a:off x="1523880" y="1676520"/>
          <a:ext cx="298440" cy="27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7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23880" y="1676520"/>
                    <a:ext cx="29844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2"/>
          <p:cNvSpPr/>
          <p:nvPr/>
        </p:nvSpPr>
        <p:spPr>
          <a:xfrm>
            <a:off x="154080" y="903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6332400" cy="77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Загальні адміністративні суди</a:t>
            </a:r>
            <a:br>
              <a:rPr sz="40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дміністративні суд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611280" y="1989000"/>
            <a:ext cx="4465440" cy="2811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90000" tIns="46800" bIns="46800" anchor="ctr">
            <a:noAutofit/>
          </a:bodyPr>
          <a:p>
            <a:pPr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ави між  фізичною особою 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ами державної влад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ави з податкових спор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ави,передбачені  Актом на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іальних послуг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4890960" y="174600"/>
            <a:ext cx="3252960" cy="64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4848120" y="49320"/>
            <a:ext cx="3322800" cy="654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Object 7"/>
          <p:cNvGraphicFramePr/>
          <p:nvPr/>
        </p:nvGraphicFramePr>
        <p:xfrm>
          <a:off x="533520" y="1219320"/>
          <a:ext cx="428400" cy="39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219320"/>
                    <a:ext cx="42840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Різновиди справ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адміністративні с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Головні категор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прави з податкових спор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прави соціального страхув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прави 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дбачені Актом над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ціальних посл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прави щодо визначення психічного стану осо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прави по соціальному забезпеченн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Міграційні спра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Інші спра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povyi</cp:lastModifiedBy>
  <dcterms:modified xsi:type="dcterms:W3CDTF">2013-08-01T09:15:57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