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017C-8C03-4565-8C21-C178B9D42EB5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6764-8329-4499-971F-BC1E23D62E73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A0837BF1-03FC-48A0-8CC5-955EE9A3E547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A4F6B385-F31C-4240-95CC-418E3F1BF300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844A03A9-739A-4403-BBE8-E15A337C1D52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39496EE5-F032-4192-9F19-AB5A1D64F3DD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5DA56134-18EF-4F6F-901C-C65921EB67A9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F73DCBE1-4BB0-49C3-9BF6-F39B81CD5B4E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100"/>
              </a:spcBef>
              <a:spcAft>
                <a:spcPts val="18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Public relations-Public Trust and Confidence in the Courts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AA51822E-F6AA-4F83-95C4-A8276FBC2329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F2851A9D-C82A-4185-A01B-7967314587EA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Important factors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accessibility of the courts and the court staff for parties and people giving evidenc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courts’ reception of parties and people giving evidenc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Processing times at the court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transparency of the courts’ decision-making process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formulation of judgements and decision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way in which activities of the courts are portrayed by the media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knowledge of the general public about what goes on in the court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The conduct of judg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397E9B25-8681-4EBA-BE43-B9393AA071F3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AC23AE0B-3B14-4A12-BBBE-6335216461F4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Measures for improving the reception of parties and people giving evidence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Guidelines for what parties and people giving evidence have reason to expect and the demands that can be placed on the staff of courts with regard to the person-to-person receptio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ll courts should offer the same accessibility with regard to telephone and office hours and contacts by email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Information to parties and people giving evidence about what goes on in the court and what is expected of them available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reception of people appearing at court is to improve and in the larger courts, there should be special service staff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ll the staff at courts are to be trained with regard to reception issu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77D3CA64-72AC-47F5-826D-2F7A9076C618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7803BC83-EC6D-48F0-8005-4072CDC36C47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Measures to improve the formulation of judgements and decisions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gulations on the formal and graphic design of judgements and decision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commendations for how judgements and decisions should be formulated with regard to readability and judicial argumentatio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ll court lawyers are to be trained in issues concerning the formulation of judgements and decisions.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3344F818-9D7E-4C91-ACD9-0921C63D9A1A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840E2689-EF4A-4D06-A63D-1AF077A145CE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Vigorous measures to improve the courts’ contacts with the media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Judg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re primarily to manage contacts with the media concerning the cases and matters for which they are responsibl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Heads of court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re to contribute to creating an atmosphere of openness at courts and a willingness to provide information to the media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Media judg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re to be available at the courts where there is a need for such a judg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A media group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of media judg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cting as a body for the regular exchange of experienc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The National Courts Administration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is to have overall responsibility for training judges in media issue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A Press Service at the National Courts Administration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is to act as a starting point for journalists and others who have questions about activities in the cour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A Spokesperson for the Swedish court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who can represent the courts and provide information about the activities of the court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21983F46-86B3-4FF1-B26D-DCF8934676FC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496D8E73-8847-48FC-9324-745A783B69D0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Other measures to strengthen trust in the courts</a:t>
            </a:r>
            <a:r>
              <a:rPr b="1" lang="sv-SE" sz="28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Better websi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arties access to information on their very own ca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Electronic case manage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outines to cover the information on blogs, communit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Greater opennes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Visits of school clas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Open house visits to the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23:28Z</dcterms:modified>
  <cp:revision>253</cp:revision>
  <dc:subject/>
  <dc:title>Sveriges Domstolar</dc:title>
</cp:coreProperties>
</file>