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C718-76FD-41CB-89B2-B62E3D4AC02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F9D5-15AA-4666-A834-792D3C1BD29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16BDAEC-5C58-47EE-AA11-A4C8B0F958E9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C4DCEBE4-60B3-40B3-8553-CCAF75010F5B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42D71736-249A-4BA0-B6FC-750CE2CEE576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0D4E8086-39BE-4BA9-9639-169B3A3DE9EB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2146D71-79D5-4B35-AB6A-5E38EE73650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B5AFF91-A1CE-4AF9-A4B5-2C7BA5CFF69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Public relations-Public Trust and Confidence in the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AB94CE1-65A8-4294-A008-4C1644766A72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1A0DBE5-83ED-42F6-BA9B-3B7C7F125B8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Important factors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accessibility of the courts and the court staff for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courts’ reception of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Processing times at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transparency of the courts’ decision-making process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formulation of judgements and decis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way in which activities of the courts are portrayed by the med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knowledge of the general public about what goes on in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The conduct of judg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6613FEE4-6676-41E1-A3AC-25CEAAAC4C7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63A974D-B451-46AE-A321-8D1CFB632D3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for improving the reception of parties and people giving evidence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uidelines for what parties and people giving evidence have reason to expect and the demands that can be placed on the staff of courts with regard to the person-to-person recep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s should offer the same accessibility with regard to telephone and office hours and contacts by emai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formation to parties and people giving evidence about what goes on in the court and what is expected of them avail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reception of people appearing at court is to improve and in the larger courts, there should be special service staff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the staff at courts are to be trained with regard to reception issu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10C74A0-EDC5-4193-B57D-ACFAE87ADE9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2141983-DAA9-427F-9AAF-C0A85DD88511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to improve the formulation of judgements and decisions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gulations on the formal and graphic design of judgements and decis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ommendations for how judgements and decisions should be formulated with regard to readability and judicial argument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 lawyers are to be trained in issues concerning the formulation of judgements and decision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7E34638-B3B0-4DEA-91D8-B56B4FE245A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8FDEE73-7BFA-4A04-9106-591F5496630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Vigorous measures to improve the courts’ contacts with the media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primarily to manage contacts with the media concerning the cases and matters for which they are responsibl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Heads of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contribute to creating an atmosphere of openness at courts and a willingness to provide information to the media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be available at the courts where there is a need for such a judg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media group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of 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cting as a body for the regular exchange of experienc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have overall responsibility for training judges in media issu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Press Service at 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act as a starting point for journalists and others who have questions about activities in the cou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Spokesperson for the Swedish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who can represent the courts and provide information about the activities of the court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8912A8E-B7F5-45CB-B336-4B5B5D17D566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E3F6F2C-404D-4906-88E1-20EB734A2C0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Other measures to strengthen trust in the courts</a:t>
            </a:r>
            <a:r>
              <a:rPr b="1" lang="sv-SE" sz="2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etter websi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ies access to information on their very own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lectronic case manag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outines to cover the information on blogs, commun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eater opennes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Visits of school cla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Open house visits to the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3:28Z</dcterms:modified>
  <cp:revision>253</cp:revision>
  <dc:subject/>
  <dc:title>Sveriges Domstolar</dc:title>
</cp:coreProperties>
</file>