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0C929F7-AB47-4AE8-985A-564B0A7D29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D2D4005-360E-4531-A90D-748C32CC19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0B48398-7577-41BD-ABB4-B6AAE90400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5596459-90E8-4CC1-8881-EC9CAAA3BE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46C7070-47BA-4D05-801F-8EBE79ADC8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EB25DC6-2E56-4124-9A06-9C84697853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12F0ED1-052D-4904-AE02-58A4521476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B1B5D78-84FB-4A14-9B88-59A6CF5398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43A8F8F-1CD8-43B9-B5FB-D8C12E2445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E64-3EB0-4E9B-818C-14152301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FD6-C350-4532-8135-B48DFE17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D21B4-4CF5-4434-B675-3B2667C0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72307-E438-4BDC-895D-262F7E63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02031-17FF-4E34-AA68-C3254A44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BFCD7-F49B-476D-B04E-0B0F19EE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D7D2C-2143-4C56-9E87-CC81221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16E44-D389-43F8-8A4C-ED32856E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B70A1-F285-4361-90C1-8A0DF5B3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C1528-7A0E-451C-8721-83D4315E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0B112-70C6-4205-A71C-22AC94A2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40245-C0F8-4BC5-960F-EBC0E93D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7EA-AE17-4622-B17F-400AFFCA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2A8A4-BB4B-4DA3-9ED0-7DAA4E37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CD8B2-5F4F-4AF6-A4C2-BB318C72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E5539-DF3E-4DF3-9C4D-B0D4B14D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A7AE9-6192-4966-B45B-D639FF13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0A93B-6656-4786-85B4-46E18DBE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8FEF3-05E7-41A7-A929-4170B3D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21BA1-8911-47E3-8253-505182BB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181BF-7C20-4EA3-BB60-90F7B9A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F0641-8545-4968-9BDD-8C7E3ADD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04D05-C0B2-44CE-99F7-29D52537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DEC-B2D4-4179-BEB4-E5F03079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A43DC-33B7-49CD-BD0A-36AC0FF1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B5B2D-7C3A-4D68-BC31-85B1E97F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D07C8-AEA3-4C23-B22A-7EE65A8B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6C348-6257-4FC5-B541-04E3CCB4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FF47A-E49E-432B-8B0F-BD901184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C343B-946E-41BC-B560-7F70CF5C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27BE2-FEEE-4E82-9F53-7C0B7FC8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D21FE-A86C-44BB-8575-E9A97D2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3A5D2-60F3-4625-A29D-6684EBD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D5E9D-03C0-4519-B739-84195AD3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318F-EFB5-4E5D-82C4-CE683ACC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F46C-BE71-428C-A49B-CB3D951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DE6D3-8EA4-4166-A330-E4102F17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15D75-BA7F-4866-A96C-16592AC2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FB559-C64F-4EAC-B7B8-004FA660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CBAFF-F94E-4991-94D0-71935447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BB914-73BA-4027-AD83-C555E70A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5990B-D8D0-4057-A875-92EA370E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4A647-95F3-40CC-ADED-6306C30B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5696A-D85C-47EF-9D9D-4B33B658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FCDA2-37D8-4884-A2E2-B8E4E331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348A-D0EB-4DFB-871B-DDDD4559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84F02-F2E9-4E49-B13D-BA57060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98000-D7B3-447E-911F-A5FBBE5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51E70-BF4E-4E12-A91D-7D1E7008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2EC35-6FD8-4224-9C9D-10227693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4F01B-7FED-482C-81D7-FFE7FE79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6E575-7E94-4326-A679-ADF03C68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332FA-7D3B-4E55-A524-3A4881D3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9548D-9DF6-4896-9085-7060B6E4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B303E-2722-4825-ADEA-2AC38C19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276D6-A685-44AC-A9DA-9021FE74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BD2D-26DF-4953-98CE-3962FBF6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7E49E-70A5-48DA-BEDF-0DF15427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B9B88-BA39-4701-BAD2-96E72644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88F1B-2602-4BF4-9D16-E7F9F2D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E087F-599E-4EF5-BB78-6AD1E4C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87A38-0EB0-49E1-949B-A0785466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9A4D7-980C-48AD-8BDB-64ED1120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06256-E195-4A96-92FE-3BCDD750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3815-EC8F-4D03-B961-95A745A4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F1BD-352E-4580-859C-81405F7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974-8F20-44AA-A85A-8C98865B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0040-24DB-4C4E-B5A7-BB064B4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C29-6351-417D-A98B-BEEBF55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5175-9314-45C3-8277-EB44A5E1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00D7-CE03-4762-B61D-E92FD8E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2DAA-FD0F-45F5-B88F-C35655A1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D9D6-16FD-4128-947B-A1179ADF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9271-1785-429A-B011-8A8006BD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3B47-DC18-49D6-8E44-1D886852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FC94-F198-426E-A709-77BAC434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58B9-4D42-46E5-9D61-AEE094A0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DE75-6924-4B24-8BC2-7E850081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7454-FEC8-45E9-9DC6-42628722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542-DE2D-4737-92B6-54E477D6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164A-AE29-4501-9F26-677D61C7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B665B-C544-403A-A649-FC84A6C4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0F3E-CF6F-4FDB-9D05-CAC78BA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1EBF-E77C-430A-9E51-4CBA71E5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C535-6247-4768-B243-48107284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D0F2-CB37-4A18-80B6-4CB4232E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1944-4523-48B5-A137-03442718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8E05-C645-4E7E-89BE-A9B134A2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0C684-45C3-4BC6-8B6B-D05DCB69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1B107-16C2-41C5-869B-2F9452B2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94F-7B4A-4205-9128-C360B959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4489-2AAF-4B94-A765-DC08071B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FD24-2CAD-457D-94AF-443C8762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D793-418B-49E4-884A-4EB5263A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4440-BE68-4827-B53B-FC6C20C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7997F-AC2F-44C0-BDC7-7A986E7F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EE71-D9CD-490E-91D8-A943F03E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F520-D447-4A00-B61F-14BDA588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B403-9D0C-48A5-8BD7-8AFB89E9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1A89-185F-4CC1-B3B4-49F6F96C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F4A5-7B16-4327-A0EC-E1DC3737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244-A1E1-4CA9-A84F-4554D58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55C3B-C6BC-48B4-8557-7980C39F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B0EC1-D6D6-4464-8B7C-346A8760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2BE5D-ACB7-4E3B-8B45-CFA216E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DB67-7171-4A3A-93AC-1D895367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DC4C-7D32-4667-AFDB-9A855DDF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CF343-78B1-4A3D-AF7F-60B09AE6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7974F-785B-4904-AD5A-EB744576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1577D-A89F-4A34-AFD9-391A036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ED85B-32D7-43C2-B0A1-116E0D07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374A2-0B10-4CA0-B3CA-6F82E8E1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0DC-E4E7-4821-9CD3-FF5C7086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09023-8116-4BB0-8963-BE4FB8E2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04186-BF11-492D-B0D9-14FAA686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2F8FD-B26C-45B6-8BFE-8222BEA6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56BA-97C8-472E-8C9C-8D1E72A0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0682B-632F-41F2-9888-25C0BE8E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2C6D-F6E8-48AA-9146-A53BC017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2722B-714B-42DB-948B-D38A520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AA97-D49D-4EE2-AA37-083A77F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E0A51-946B-465D-A513-1F142C2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9DF7-8B09-491E-A36D-EFE42DEE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487-26B2-434A-974B-BE3AA3B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2BAD7-4EEF-4DDB-8305-71988557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5B4B-4BF8-446A-A7C2-9609FB4D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86C94-838B-4097-ACCB-8B4D1F10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C12D6-91F1-4204-A5F7-4D341BBB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7FFAC-89F3-404B-AFF0-8D65406C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0409F-9CEA-4CFE-A2A8-FD35CA3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991DD-665D-4C84-A6DD-732FBB64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3F98C-A2BC-4101-8502-DDFF9939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BEEB-8CB4-4270-961E-8868CE95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C8C98-0371-48D7-B5FE-89D5BED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603-CCD8-43E1-A5A2-6902ED9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63CF2-A79D-4911-A2D5-C635D756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11E4D-6BA5-4D6A-B975-A131222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7021-43C9-4797-AB8F-C94A538A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F2F5D-F25A-4967-9506-F782CDAE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5104-CD0E-486C-A975-CD8B13E8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128E1-CFAF-4109-8570-7BFA1DD8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B0067-FF75-4CA6-8013-96AB5662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F63B2-8D77-49F8-AEA0-514178C5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B3816-0561-4EC4-8C88-69DA69E3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9BA02-8C9D-4397-96A1-E1CEC0C1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8A2-C2FC-447D-AD21-5B491D26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CBC3A-DDB2-415A-B8BF-D1C5ADAB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8B914-E0FC-4701-926E-E75FFB2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C01C6-2F93-4F74-BE32-C15E61A7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E859C-C3CD-47E8-94FB-D649365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0684C-7BD6-42D7-9C2F-4A9F0A56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5D4A8-7DF1-4D93-AC1C-26AC2A39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695D4-6434-43CC-9FCC-427F3E08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1CEC7-460C-4F14-BE49-625968B3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7F1DD-3191-43C2-BD64-F7747951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5DD6A-6051-4602-B5C5-6308FBC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3F5F75B-0EED-49A9-BFF0-13C122D905A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5254460-7876-4BFA-B1AA-F924DC4C8FDD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9627FEC-8685-4186-83D9-D68BE5992473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1687E8B-366A-45F2-84B7-94738EDD7F4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571D914-0281-44F0-94F4-8A7110522366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E3EA077-B68E-4AD0-B482-748DE981CD6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51003B1-0422-4164-90A9-ED87D74D2C8B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7CB6BD2-99CE-4BD1-9B0C-E23A8EDFAC21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B3B84FA-5B03-47E4-B7A9-FD4E658FBCB1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1502FE3-6549-4835-AF74-44D0C2DDD41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6EA23DA-6BA1-4104-8F8B-393A519B50FF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133CAF9-7462-4378-AA9B-A32644F5A1DD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F9668B2-DBF3-424B-A0F1-7B88743BC7E4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29564E9-A392-4064-81BC-FCA103D09DF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C9CB483-E50D-4847-99FE-85B1529F0640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692B86F-D813-4029-9DFB-CAA74AFEE64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E974F8A-4F59-4F44-9402-1C7704541E21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CE233FB-67C4-4CDF-95D2-7969FA9D1EC0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E9FBA38-ABFB-426E-AB99-9743154210F3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893C43D-7C7F-459F-9C85-A9C61310F3B8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8C5A246-2BB3-4295-8C05-66FB9C8A8457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CA89009-CA8D-45F9-BFB7-95232B924E7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4CED361-906C-44B1-BBB5-23A9AC167D2A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03C21B9-C514-4BB0-B865-DB70C5082D91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F2E8761-F8E3-44EA-BFB9-E13CBB7B1ADA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783B888-9A5D-4477-A826-AAF7DED4781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Схема 2" descr=""/>
          <p:cNvPicPr/>
          <p:nvPr/>
        </p:nvPicPr>
        <p:blipFill>
          <a:blip r:embed="rId1"/>
          <a:stretch/>
        </p:blipFill>
        <p:spPr>
          <a:xfrm>
            <a:off x="487440" y="1974960"/>
            <a:ext cx="9070920" cy="3054240"/>
          </a:xfrm>
          <a:prstGeom prst="rect">
            <a:avLst/>
          </a:prstGeom>
          <a:ln w="0">
            <a:noFill/>
          </a:ln>
        </p:spPr>
      </p:pic>
      <p:grpSp>
        <p:nvGrpSpPr>
          <p:cNvPr id="541" name="Группа 10"/>
          <p:cNvGrpSpPr/>
          <p:nvPr/>
        </p:nvGrpSpPr>
        <p:grpSpPr>
          <a:xfrm>
            <a:off x="235080" y="0"/>
            <a:ext cx="9434520" cy="1357200"/>
            <a:chOff x="235080" y="0"/>
            <a:chExt cx="9434520" cy="1357200"/>
          </a:xfrm>
        </p:grpSpPr>
        <p:pic>
          <p:nvPicPr>
            <p:cNvPr id="542" name="Picture 3" descr=""/>
            <p:cNvPicPr/>
            <p:nvPr/>
          </p:nvPicPr>
          <p:blipFill>
            <a:blip r:embed="rId2"/>
            <a:stretch/>
          </p:blipFill>
          <p:spPr>
            <a:xfrm>
              <a:off x="235080" y="0"/>
              <a:ext cx="94345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6" descr="E:\UDC\Конференція суддів\Untitled-1.gif"/>
            <p:cNvPicPr/>
            <p:nvPr/>
          </p:nvPicPr>
          <p:blipFill>
            <a:blip r:embed="rId3"/>
            <a:stretch/>
          </p:blipFill>
          <p:spPr>
            <a:xfrm>
              <a:off x="665280" y="271440"/>
              <a:ext cx="539640" cy="74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54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5" name="Picture 3" descr=""/>
            <p:cNvPicPr/>
            <p:nvPr/>
          </p:nvPicPr>
          <p:blipFill>
            <a:blip r:embed="rId4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6" descr="E:\UDC\Конференція суддів\Untitled-1.gif"/>
            <p:cNvPicPr/>
            <p:nvPr/>
          </p:nvPicPr>
          <p:blipFill>
            <a:blip r:embed="rId5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47" name="Нижний колонтитул 3"/>
          <p:cNvSpPr/>
          <p:nvPr/>
        </p:nvSpPr>
        <p:spPr>
          <a:xfrm>
            <a:off x="1352520" y="360360"/>
            <a:ext cx="855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осударственная судебная администрация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405D64B-E4B7-441F-AB32-B453C67A10E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652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54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чая группа по вопросам иннов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360" y="1248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 algn="ctr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андартов функционирования суда 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проект «Совершенный суд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(Азиатско-Тихоокеанская судебная конференция, Сингапур, октябрь 201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Внешняя и внутренняя оценка деятельности суд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карточки гражданского опроса – более 7 500 анк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ратегического плана развития судебной систем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витие информационных технолог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Создание концепции коммуникационной политик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58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79080" y="166320"/>
            <a:ext cx="8626680" cy="101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ратегического плана развития судебной системы Укра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Объект 2" descr=""/>
          <p:cNvPicPr/>
          <p:nvPr/>
        </p:nvPicPr>
        <p:blipFill>
          <a:blip r:embed="rId3"/>
          <a:stretch/>
        </p:blipFill>
        <p:spPr>
          <a:xfrm>
            <a:off x="633240" y="1536840"/>
            <a:ext cx="8669520" cy="4778280"/>
          </a:xfrm>
          <a:prstGeom prst="rect">
            <a:avLst/>
          </a:prstGeom>
          <a:ln w="0">
            <a:noFill/>
          </a:ln>
        </p:spPr>
      </p:pic>
      <p:sp>
        <p:nvSpPr>
          <p:cNvPr id="662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74FD2A3-B76C-4227-A458-D783F3F6A2D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4"/>
          <a:stretch/>
        </p:blipFill>
        <p:spPr>
          <a:xfrm>
            <a:off x="452520" y="1434960"/>
            <a:ext cx="2916000" cy="1943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"/>
          <p:cNvPicPr/>
          <p:nvPr/>
        </p:nvPicPr>
        <p:blipFill>
          <a:blip r:embed="rId5"/>
          <a:stretch/>
        </p:blipFill>
        <p:spPr>
          <a:xfrm>
            <a:off x="6535800" y="4373640"/>
            <a:ext cx="276840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"/>
          <p:cNvPicPr/>
          <p:nvPr/>
        </p:nvPicPr>
        <p:blipFill>
          <a:blip r:embed="rId1"/>
          <a:stretch/>
        </p:blipFill>
        <p:spPr>
          <a:xfrm>
            <a:off x="3727440" y="2541600"/>
            <a:ext cx="2521080" cy="2901960"/>
          </a:xfrm>
          <a:prstGeom prst="rect">
            <a:avLst/>
          </a:prstGeom>
          <a:ln w="0">
            <a:noFill/>
          </a:ln>
        </p:spPr>
      </p:pic>
      <p:sp>
        <p:nvSpPr>
          <p:cNvPr id="666" name="Номер слайда 2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C438D85-1213-4839-9B9A-874C1805784F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2"/>
          <a:stretch/>
        </p:blipFill>
        <p:spPr>
          <a:xfrm>
            <a:off x="-3240" y="0"/>
            <a:ext cx="9907560" cy="1469880"/>
          </a:xfrm>
          <a:prstGeom prst="rect">
            <a:avLst/>
          </a:prstGeom>
          <a:ln w="0">
            <a:noFill/>
          </a:ln>
        </p:spPr>
      </p:pic>
      <p:sp>
        <p:nvSpPr>
          <p:cNvPr id="668" name="Заголовок 1"/>
          <p:cNvSpPr/>
          <p:nvPr/>
        </p:nvSpPr>
        <p:spPr>
          <a:xfrm>
            <a:off x="1352520" y="189000"/>
            <a:ext cx="855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ждународная конференция, приуроченная к десятилетию Государственной судебной администрации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Прямоугольник 13"/>
          <p:cNvSpPr/>
          <p:nvPr/>
        </p:nvSpPr>
        <p:spPr>
          <a:xfrm>
            <a:off x="3511440" y="3409920"/>
            <a:ext cx="264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Прямоугольник 1" descr=""/>
          <p:cNvPicPr/>
          <p:nvPr/>
        </p:nvPicPr>
        <p:blipFill>
          <a:blip r:embed="rId3"/>
          <a:stretch/>
        </p:blipFill>
        <p:spPr>
          <a:xfrm>
            <a:off x="1262160" y="5589720"/>
            <a:ext cx="7381800" cy="585720"/>
          </a:xfrm>
          <a:prstGeom prst="rect">
            <a:avLst/>
          </a:prstGeom>
          <a:ln w="0">
            <a:noFill/>
          </a:ln>
        </p:spPr>
      </p:pic>
      <p:pic>
        <p:nvPicPr>
          <p:cNvPr id="671" name="Прямоугольник 7" descr=""/>
          <p:cNvPicPr/>
          <p:nvPr/>
        </p:nvPicPr>
        <p:blipFill>
          <a:blip r:embed="rId4"/>
          <a:stretch/>
        </p:blipFill>
        <p:spPr>
          <a:xfrm>
            <a:off x="3730680" y="1700280"/>
            <a:ext cx="30542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51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2AC2B92-AEB4-4B92-8953-4E3C92F146F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У к р а и н а</a:t>
            </a: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2"/>
          <p:cNvSpPr/>
          <p:nvPr/>
        </p:nvSpPr>
        <p:spPr>
          <a:xfrm>
            <a:off x="2113200" y="2540160"/>
            <a:ext cx="3202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арта + інформація про держав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"/>
          <p:cNvSpPr/>
          <p:nvPr/>
        </p:nvSpPr>
        <p:spPr>
          <a:xfrm>
            <a:off x="5672160" y="1400040"/>
            <a:ext cx="410508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Население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45,6 миллиона (28-е в мире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Территория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45-я в мире (603 628 км²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5,7% территории Европ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Times New Roman"/>
              </a:rPr>
              <a:t>7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ей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8,7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работников аппаратов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32,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дел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9,4 миллиона (201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3"/>
          <a:stretch/>
        </p:blipFill>
        <p:spPr>
          <a:xfrm>
            <a:off x="0" y="1392120"/>
            <a:ext cx="5467320" cy="546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5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61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972D2EA-19CB-4240-A48F-9DF55EF6742F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стема судов общей юрисдикции в Укра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8"/>
          <p:cNvSpPr/>
          <p:nvPr/>
        </p:nvSpPr>
        <p:spPr>
          <a:xfrm>
            <a:off x="152280" y="152280"/>
            <a:ext cx="990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152280" y="1701720"/>
            <a:ext cx="9464760" cy="5257800"/>
            <a:chOff x="152280" y="1701720"/>
            <a:chExt cx="9464760" cy="5257800"/>
          </a:xfrm>
        </p:grpSpPr>
        <p:sp>
          <p:nvSpPr>
            <p:cNvPr id="566" name="AutoShape 37"/>
            <p:cNvSpPr/>
            <p:nvPr/>
          </p:nvSpPr>
          <p:spPr>
            <a:xfrm>
              <a:off x="152280" y="1701720"/>
              <a:ext cx="946476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36"/>
            <p:cNvSpPr/>
            <p:nvPr/>
          </p:nvSpPr>
          <p:spPr>
            <a:xfrm>
              <a:off x="3299040" y="1701720"/>
              <a:ext cx="2971080" cy="457560"/>
            </a:xfrm>
            <a:prstGeom prst="flowChartProcess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Верховный Cуд Украин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556200" y="2541960"/>
              <a:ext cx="2628360" cy="874080"/>
            </a:xfrm>
            <a:prstGeom prst="flowChartProcess">
              <a:avLst/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хозяйствен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4"/>
            <p:cNvSpPr/>
            <p:nvPr/>
          </p:nvSpPr>
          <p:spPr>
            <a:xfrm>
              <a:off x="556200" y="3759120"/>
              <a:ext cx="2628360" cy="685440"/>
            </a:xfrm>
            <a:prstGeom prst="flowChartProcess">
              <a:avLst/>
            </a:prstGeom>
            <a:solidFill>
              <a:srgbClr val="6fa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8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3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3"/>
            <p:cNvSpPr/>
            <p:nvPr/>
          </p:nvSpPr>
          <p:spPr>
            <a:xfrm>
              <a:off x="556200" y="4788000"/>
              <a:ext cx="2628360" cy="685440"/>
            </a:xfrm>
            <a:prstGeom prst="flowChartProcess">
              <a:avLst/>
            </a:prstGeom>
            <a:solidFill>
              <a:srgbClr val="8ab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7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32"/>
            <p:cNvSpPr/>
            <p:nvPr/>
          </p:nvSpPr>
          <p:spPr>
            <a:xfrm>
              <a:off x="6499440" y="2541960"/>
              <a:ext cx="2857680" cy="874080"/>
            </a:xfrm>
            <a:prstGeom prst="flowChartProcess">
              <a:avLst/>
            </a:prstGeom>
            <a:solidFill>
              <a:srgbClr val="31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административ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31"/>
            <p:cNvSpPr/>
            <p:nvPr/>
          </p:nvSpPr>
          <p:spPr>
            <a:xfrm>
              <a:off x="6499440" y="3759120"/>
              <a:ext cx="2857680" cy="685440"/>
            </a:xfrm>
            <a:prstGeom prst="flowChartProcess">
              <a:avLst/>
            </a:prstGeom>
            <a:solidFill>
              <a:srgbClr val="3ea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9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0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30"/>
            <p:cNvSpPr/>
            <p:nvPr/>
          </p:nvSpPr>
          <p:spPr>
            <a:xfrm>
              <a:off x="6499440" y="4788000"/>
              <a:ext cx="2857680" cy="685440"/>
            </a:xfrm>
            <a:prstGeom prst="flowChartProcess">
              <a:avLst/>
            </a:prstGeom>
            <a:solidFill>
              <a:srgbClr val="5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круж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67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29"/>
            <p:cNvSpPr/>
            <p:nvPr/>
          </p:nvSpPr>
          <p:spPr>
            <a:xfrm>
              <a:off x="3527280" y="2541960"/>
              <a:ext cx="2629440" cy="858240"/>
            </a:xfrm>
            <a:prstGeom prst="flowChartProcess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специализированный суд Украины по рассмотрению гражданских и уголовных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де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8"/>
            <p:cNvSpPr/>
            <p:nvPr/>
          </p:nvSpPr>
          <p:spPr>
            <a:xfrm>
              <a:off x="3528360" y="3759120"/>
              <a:ext cx="2628360" cy="686160"/>
            </a:xfrm>
            <a:prstGeom prst="flowChartProcess">
              <a:avLst/>
            </a:prstGeom>
            <a:solidFill>
              <a:srgbClr val="95b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1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17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7"/>
            <p:cNvSpPr/>
            <p:nvPr/>
          </p:nvSpPr>
          <p:spPr>
            <a:xfrm>
              <a:off x="3527280" y="4788000"/>
              <a:ext cx="2628720" cy="685440"/>
            </a:xfrm>
            <a:prstGeom prst="flowChartProcess">
              <a:avLst/>
            </a:prstGeom>
            <a:solidFill>
              <a:srgbClr val="a7c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ст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666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8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" name="AutoShape 12"/>
            <p:cNvCxnSpPr/>
            <p:nvPr/>
          </p:nvCxnSpPr>
          <p:spPr>
            <a:xfrm flipH="1">
              <a:off x="1809360" y="1929240"/>
              <a:ext cx="4680" cy="613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</a:ln>
          </p:spPr>
        </p:cxnSp>
        <p:cxnSp>
          <p:nvCxnSpPr>
            <p:cNvPr id="578" name="AutoShape 11"/>
            <p:cNvCxnSpPr/>
            <p:nvPr/>
          </p:nvCxnSpPr>
          <p:spPr>
            <a:xfrm flipV="1">
              <a:off x="1811160" y="3416040"/>
              <a:ext cx="1440" cy="3333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79" name="AutoShape 10"/>
            <p:cNvCxnSpPr/>
            <p:nvPr/>
          </p:nvCxnSpPr>
          <p:spPr>
            <a:xfrm flipV="1">
              <a:off x="1811880" y="4452840"/>
              <a:ext cx="2160" cy="325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grpSp>
          <p:nvGrpSpPr>
            <p:cNvPr id="580" name=""/>
            <p:cNvGrpSpPr/>
            <p:nvPr/>
          </p:nvGrpSpPr>
          <p:grpSpPr>
            <a:xfrm>
              <a:off x="4787640" y="3415680"/>
              <a:ext cx="1800" cy="324000"/>
              <a:chOff x="4787640" y="3415680"/>
              <a:chExt cx="1800" cy="324000"/>
            </a:xfrm>
          </p:grpSpPr>
          <p:cxnSp>
            <p:nvCxnSpPr>
              <p:cNvPr id="581" name="AutoShape 9"/>
              <p:cNvCxnSpPr/>
              <p:nvPr/>
            </p:nvCxnSpPr>
            <p:spPr>
              <a:xfrm flipV="1">
                <a:off x="4787640" y="341568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2" name=""/>
              <p:cNvSpPr txBox="1"/>
              <p:nvPr/>
            </p:nvSpPr>
            <p:spPr>
              <a:xfrm rot="10800000">
                <a:off x="4787640" y="341568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788720" y="4443840"/>
              <a:ext cx="1080" cy="324000"/>
              <a:chOff x="4788720" y="4443840"/>
              <a:chExt cx="1080" cy="324000"/>
            </a:xfrm>
          </p:grpSpPr>
          <p:cxnSp>
            <p:nvCxnSpPr>
              <p:cNvPr id="584" name="AutoShape 8"/>
              <p:cNvCxnSpPr/>
              <p:nvPr/>
            </p:nvCxnSpPr>
            <p:spPr>
              <a:xfrm flipV="1">
                <a:off x="4789080" y="4443840"/>
                <a:ext cx="108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5" name=""/>
              <p:cNvSpPr txBox="1"/>
              <p:nvPr/>
            </p:nvSpPr>
            <p:spPr>
              <a:xfrm rot="10800000">
                <a:off x="4788720" y="444384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6" name="AutoShape 7"/>
            <p:cNvCxnSpPr/>
            <p:nvPr/>
          </p:nvCxnSpPr>
          <p:spPr>
            <a:xfrm flipV="1">
              <a:off x="7986600" y="34156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87" name="AutoShape 6"/>
            <p:cNvCxnSpPr/>
            <p:nvPr/>
          </p:nvCxnSpPr>
          <p:spPr>
            <a:xfrm flipV="1">
              <a:off x="7984800" y="44632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grpSp>
          <p:nvGrpSpPr>
            <p:cNvPr id="588" name=""/>
            <p:cNvGrpSpPr/>
            <p:nvPr/>
          </p:nvGrpSpPr>
          <p:grpSpPr>
            <a:xfrm>
              <a:off x="4789440" y="2158560"/>
              <a:ext cx="1800" cy="324000"/>
              <a:chOff x="4789440" y="2158560"/>
              <a:chExt cx="1800" cy="324000"/>
            </a:xfrm>
          </p:grpSpPr>
          <p:cxnSp>
            <p:nvCxnSpPr>
              <p:cNvPr id="589" name="AutoShape 5"/>
              <p:cNvCxnSpPr/>
              <p:nvPr/>
            </p:nvCxnSpPr>
            <p:spPr>
              <a:xfrm flipV="1">
                <a:off x="4789440" y="215856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90" name=""/>
              <p:cNvSpPr txBox="1"/>
              <p:nvPr/>
            </p:nvSpPr>
            <p:spPr>
              <a:xfrm rot="10800000">
                <a:off x="4789440" y="215856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1" name="AutoShape 4"/>
            <p:cNvCxnSpPr/>
            <p:nvPr/>
          </p:nvCxnSpPr>
          <p:spPr>
            <a:xfrm>
              <a:off x="1814040" y="1929600"/>
              <a:ext cx="1485360" cy="21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92" name="AutoShape 3"/>
            <p:cNvCxnSpPr/>
            <p:nvPr/>
          </p:nvCxnSpPr>
          <p:spPr>
            <a:xfrm flipH="1">
              <a:off x="6269760" y="1929600"/>
              <a:ext cx="1711080" cy="21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93" name="AutoShape 2"/>
            <p:cNvCxnSpPr/>
            <p:nvPr/>
          </p:nvCxnSpPr>
          <p:spPr>
            <a:xfrm flipH="1">
              <a:off x="7980480" y="1929960"/>
              <a:ext cx="7200" cy="612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</a:ln>
          </p:spPr>
        </p:cxn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3D94C2D-AE27-4CB0-9D42-3D7AF9771841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597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99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ые проблемы в обеспечении деятельности су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95000" y="1846440"/>
            <a:ext cx="8932680" cy="4032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Дефицит финансовых ресурс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заработная плата работников аппаратов су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текущие расходы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капитальные расх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ерегруженность судей и работников суд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около 120 дел в месяц на судью в 2011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uk-UA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31800" y="1599840"/>
            <a:ext cx="8640720" cy="4660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оустройстве и статусе судей" от 7 июля 2010 года</a:t>
            </a:r>
            <a:br>
              <a:rPr sz="2000"/>
            </a:br>
            <a:r>
              <a:rPr b="1" i="1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43536A7-54ED-468F-8143-5F9E6C7CF01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06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08" name="Прямоугольник 14"/>
          <p:cNvSpPr/>
          <p:nvPr/>
        </p:nvSpPr>
        <p:spPr>
          <a:xfrm>
            <a:off x="1306440" y="34920"/>
            <a:ext cx="8597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3"/>
          <p:cNvSpPr/>
          <p:nvPr/>
        </p:nvSpPr>
        <p:spPr>
          <a:xfrm>
            <a:off x="7101000" y="2709720"/>
            <a:ext cx="231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одержание каждого суда определяются в Законе о Государственном бюджете</a:t>
            </a:r>
            <a:r>
              <a:rPr b="1" lang="ru-RU" sz="1600" spc="-1" strike="noStrike">
                <a:solidFill>
                  <a:srgbClr val="4b4b4b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92520" y="5429160"/>
            <a:ext cx="43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удебную систему не могут сокращаться в течение текущего финансов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631800" y="270972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змер судейского вознаграждения закреплен на уровне зак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3048120" y="2882880"/>
            <a:ext cx="3760560" cy="205416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9"/>
          <p:cNvSpPr/>
          <p:nvPr/>
        </p:nvSpPr>
        <p:spPr>
          <a:xfrm>
            <a:off x="781200" y="4095000"/>
            <a:ext cx="208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ctr">
              <a:buClr>
                <a:srgbClr val="7f7f7f"/>
              </a:buClr>
              <a:buFont typeface="Wingdings" charset="2"/>
              <a:buChar char="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012  году увеличилс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,4 раз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15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52160" y="0"/>
            <a:ext cx="8551800" cy="1270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24BC0BD-C5D6-43F1-8252-C2563210AF6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Объект 14" descr=""/>
          <p:cNvPicPr/>
          <p:nvPr/>
        </p:nvPicPr>
        <p:blipFill>
          <a:blip r:embed="rId3"/>
          <a:stretch/>
        </p:blipFill>
        <p:spPr>
          <a:xfrm>
            <a:off x="4230720" y="1951200"/>
            <a:ext cx="4376880" cy="443052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15"/>
          <p:cNvSpPr/>
          <p:nvPr/>
        </p:nvSpPr>
        <p:spPr>
          <a:xfrm>
            <a:off x="1352520" y="1411200"/>
            <a:ext cx="71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ебном сборе" от 8 июля 2011 года</a:t>
            </a:r>
            <a:br>
              <a:rPr sz="2000"/>
            </a:b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Диаграмма 17" descr=""/>
          <p:cNvPicPr/>
          <p:nvPr/>
        </p:nvPicPr>
        <p:blipFill>
          <a:blip r:embed="rId4"/>
          <a:stretch/>
        </p:blipFill>
        <p:spPr>
          <a:xfrm>
            <a:off x="725400" y="2227320"/>
            <a:ext cx="4565880" cy="247788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16"/>
          <p:cNvSpPr/>
          <p:nvPr/>
        </p:nvSpPr>
        <p:spPr>
          <a:xfrm>
            <a:off x="1135080" y="4581360"/>
            <a:ext cx="403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Размер бюджета судебной власти увеличился в 1,5 раза и составляет в 2012 году около 500 млн.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Группа 10"/>
          <p:cNvGrpSpPr/>
          <p:nvPr/>
        </p:nvGrpSpPr>
        <p:grpSpPr>
          <a:xfrm>
            <a:off x="3240" y="0"/>
            <a:ext cx="9905760" cy="1428840"/>
            <a:chOff x="3240" y="0"/>
            <a:chExt cx="9905760" cy="1428840"/>
          </a:xfrm>
        </p:grpSpPr>
        <p:pic>
          <p:nvPicPr>
            <p:cNvPr id="624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3240" y="0"/>
              <a:ext cx="99057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540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52160" y="135000"/>
            <a:ext cx="8551800" cy="1010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Гарантии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финансирования судебной системы нуждаются в усилен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Объект 3" descr=""/>
          <p:cNvPicPr/>
          <p:nvPr/>
        </p:nvPicPr>
        <p:blipFill>
          <a:blip r:embed="rId3"/>
          <a:stretch/>
        </p:blipFill>
        <p:spPr>
          <a:xfrm>
            <a:off x="457200" y="1414440"/>
            <a:ext cx="8997840" cy="4827600"/>
          </a:xfrm>
          <a:prstGeom prst="rect">
            <a:avLst/>
          </a:prstGeom>
          <a:ln w="0">
            <a:noFill/>
          </a:ln>
        </p:spPr>
      </p:pic>
      <p:sp>
        <p:nvSpPr>
          <p:cNvPr id="62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E18BE38-3443-48D0-83FA-5226C2AF0AD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Прямоугольник 4"/>
          <p:cNvSpPr/>
          <p:nvPr/>
        </p:nvSpPr>
        <p:spPr>
          <a:xfrm>
            <a:off x="704880" y="204480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</a:rPr>
              <a:t>Разработаны про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Объект 14" descr=""/>
          <p:cNvPicPr/>
          <p:nvPr/>
        </p:nvPicPr>
        <p:blipFill>
          <a:blip r:embed="rId1"/>
          <a:stretch/>
        </p:blipFill>
        <p:spPr>
          <a:xfrm>
            <a:off x="-1023840" y="1590840"/>
            <a:ext cx="12026880" cy="3865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rcRect l="15971" t="0" r="43692" b="0"/>
          <a:stretch/>
        </p:blipFill>
        <p:spPr>
          <a:xfrm>
            <a:off x="7327800" y="1701720"/>
            <a:ext cx="21970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632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33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6" descr="E:\UDC\Конференція суддів\Untitled-1.gif"/>
            <p:cNvPicPr/>
            <p:nvPr/>
          </p:nvPicPr>
          <p:blipFill>
            <a:blip r:embed="rId4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9080" y="404280"/>
            <a:ext cx="8129520" cy="40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шаг в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ED9C5C7-5B50-4F7D-AC84-90F9048BAF8E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Прямоугольник 11"/>
          <p:cNvSpPr/>
          <p:nvPr/>
        </p:nvSpPr>
        <p:spPr>
          <a:xfrm>
            <a:off x="200160" y="2062080"/>
            <a:ext cx="494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5"/>
          <a:stretch/>
        </p:blipFill>
        <p:spPr>
          <a:xfrm>
            <a:off x="415800" y="1701720"/>
            <a:ext cx="2090880" cy="3603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6"/>
          <a:stretch/>
        </p:blipFill>
        <p:spPr>
          <a:xfrm>
            <a:off x="1496880" y="5580000"/>
            <a:ext cx="724860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41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87400" y="179280"/>
            <a:ext cx="8129520" cy="712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путь к сокращению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BDEE8D4-5556-401B-BD03-862B39039AA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Объект 14" descr=""/>
          <p:cNvPicPr/>
          <p:nvPr/>
        </p:nvPicPr>
        <p:blipFill>
          <a:blip r:embed="rId3"/>
          <a:stretch/>
        </p:blipFill>
        <p:spPr>
          <a:xfrm>
            <a:off x="493560" y="1590840"/>
            <a:ext cx="8918640" cy="3365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4"/>
          <a:stretch/>
        </p:blipFill>
        <p:spPr>
          <a:xfrm>
            <a:off x="3765600" y="5014800"/>
            <a:ext cx="2374920" cy="1690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5"/>
          <a:stretch/>
        </p:blipFill>
        <p:spPr>
          <a:xfrm>
            <a:off x="631800" y="1989000"/>
            <a:ext cx="2594160" cy="280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6"/>
          <a:stretch/>
        </p:blipFill>
        <p:spPr>
          <a:xfrm>
            <a:off x="6680160" y="1989000"/>
            <a:ext cx="25941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53:31Z</dcterms:created>
  <dc:creator/>
  <dc:description/>
  <dc:language>en-US</dc:language>
  <cp:lastModifiedBy/>
  <dcterms:modified xsi:type="dcterms:W3CDTF">2013-07-30T08:49:15Z</dcterms:modified>
  <cp:revision>1</cp:revision>
  <dc:subject/>
  <dc:title/>
</cp:coreProperties>
</file>