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FD9BFDF-0308-40FB-B9C7-41EE9F339C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8BAFF4F-2AE6-4312-93F0-D0C91DC95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BC3CD38-01F4-4328-9D1E-56A90627A7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3CB13D3-76AE-4AC4-9436-36321ED364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5CEF816-FCF4-475B-B1F2-FA55A3FAF9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2FAA493-6147-4956-AF30-D34C2C83E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5E0F2FD-FF1E-4834-817E-8F0A4ACAD9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B3F4359-30A0-4774-B151-EB90B6165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E920238-4786-4014-935C-3ED689BBA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013-4B83-451A-AF58-41EFFB0E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470-0ECA-40F3-919C-1F5BBE13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1529C-3D55-4DEB-BA2E-6151741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72DA1-76C4-40D9-8657-C0899FD5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E4D2-9CC3-4747-B65A-CF2EC197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377EA-C31F-4CEE-91FB-28BB667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DE645-2617-4B7A-B07E-E1A4D1C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D9CAB-93A4-4C0A-8B72-15574CE9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C77E7-A1FB-4452-A539-58283A15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F4275-1FDF-4B07-A2AC-F4675F21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27A4-B5C7-48F8-8882-F111B194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68ABD-1D04-4C25-B8E3-7998339D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424-B263-424A-9CEE-1479A925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27AE8-5A89-47FF-AB74-66ABCF0D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82498-31B1-44BF-8A76-00219E5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1BCF0-DCFF-4E76-8C40-D7CDF62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B5D5F-F6C1-45B4-A4E9-63D71DD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032F-42C6-4355-9EAE-BB27D64C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6941D-4894-4063-A060-BD2F45B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CBFA4-CE92-4E35-B770-A425D1D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DD8D9-EB85-4414-88C0-49E8B0F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8A70D-01D6-4012-AF0A-290CD9F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28EDF-7ED8-4907-9840-61281942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DAA-E13D-4775-AE15-D0D8E770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BAEAE-9E3A-4BA3-8D17-FE0AB1C2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7A002-063E-43B3-963A-2A4FCFC6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6DFA6-8613-459E-A2D2-5F5923B1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EFD0F-E5EB-472B-978F-0D3BAA06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BAAC5-E01A-41F4-85F5-AE7A3B7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A51F5-3708-45CB-B284-BC5C37C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7039F-1290-47A9-B0C0-2F55E67A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591F9-FCBF-4335-928D-E818DE7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1CE79-D1D6-40F8-BF75-E4DC2D7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527D-753F-4BC4-804B-3B2DB528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72F4-899F-42F9-A0FC-66920F6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B10C0-6413-4855-A758-D91BE2AD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AC3F2-2373-41C7-8730-58D9ADA4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0F3A-D767-4834-AF5F-9FE93942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D89D0-8C79-4CE5-9BD5-8F122C5F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47462-3965-4D49-8A24-9853E9FD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1211D-A27E-4D05-B8CB-02C5DB0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5B94A-67A0-4D42-9101-AAA63344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FA902-DA97-496C-B781-6B524DE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450F5-3B01-48A6-B2F1-5E567C6F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D5546-5EB6-4153-BACB-115944C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F89-AD1D-450E-A2B9-B62AA8A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30277-08F3-4D74-AF4B-EEC58639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7443-D535-4AA4-9755-A72031C3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0B24A-669D-4DD5-8FFF-39CF891D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ED24B-3B77-4D2D-A91E-C0CEAD84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22638-A0E3-4082-9F13-2E1B9D79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6AB00-3F5F-4DBD-97F6-C82A8674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72EFE-6EB1-411A-8B66-F0A06058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92036-0D3E-4ACB-91D0-586AEB7E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20E44-415B-4941-AA6A-A588672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28F95-4D41-4210-B591-2DC620B4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DB6D-EF1D-45B3-AF5B-3D7E76E7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45925-75C0-45A4-A3B5-85DAF27A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27F60-C527-45F1-A15B-F34BBD8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D21ED-CB99-4165-9475-7C1ACF0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78ED5-7782-4183-9F00-C330749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B7D35-D04B-4A17-AC26-AC2FF60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49D94-5F28-47EA-9F7F-A8F355EF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40DE9-C16D-40C9-AD74-DC7DB3AB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3A2-3151-4A2D-B02D-BC09565F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A1AD-DA40-4CA8-B42A-A3D4C6BD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570-D941-4641-9E08-C0C2022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3086-B03F-4092-B4A8-004303F8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1EC-7C4D-4631-9B54-4BFE513A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D05-6AA8-450A-82FA-C1077483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AA85-ADCC-49CA-9D13-538E92C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DE85-8202-4B14-B667-12FB4A06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B242-7CB6-4E34-A762-F759ABDE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2C3-9D38-469D-A798-063A4101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BA47-E6F5-4FE6-AB32-02F672E4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532C-4F11-4A87-8390-085E1D55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B4CF-2871-4B5B-81EB-443D318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A70C-2999-4BFA-82F6-66413C56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9F31-E6FA-4BAE-BB16-89E67944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7BD-39DA-41C4-91E5-9850A84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BEC2-991B-49E1-9A0A-C1646356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7EFF-3C18-41A0-BBA4-D9A374C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A45B-AF7D-421E-B8FC-4F478563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5261-1209-4F08-83F1-2F7FED4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C046-B12B-4A01-9E13-5D73557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4A43-6C1F-4DF9-983C-59578F50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7283-CC26-45DF-984F-FB9A37CA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CD78C-25D9-4696-B412-ADC9953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A188-50C2-4BEA-8E08-E5748F8D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F1A7-9A9A-4543-900B-F749399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89C-AC67-4D0E-BE14-7446E8B4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35FF9-7BCE-416B-89A4-3024B20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F390-267E-44B4-97D4-8E10807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56B4-2F78-4269-A73A-D1016BA5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3AE8-E7D9-4FE3-BDBF-FD5FEF4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68FCF-7FAA-4BD8-9255-37D0331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F3EE-4582-4E09-B1B7-CF7DBAA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27D4-ED69-444C-A139-60433CB1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CF69-6DC1-40EE-8240-4AC3E1D8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DD2E-2553-48DB-A43F-F785B2AE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6BFC-729A-4534-ADBE-7BE80BA3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259-E624-4928-982E-6BFB8315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9A311-E281-44C9-9062-7EC33C0A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CC35-8F90-48B2-B7C5-A37D5250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E7EA-591F-466C-BAA0-DBAE600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C0434-E2AE-47A8-ACAB-F253DAD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EAD7-EA7A-491D-9C0B-A08B6ED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94D9-1A76-4D70-ABF8-89DB373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2C7E6-906C-47DD-94B9-17BC3ACA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797E-7210-4D3B-9C5A-794D320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9E31-EBC0-43F3-A24B-64421132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C965-98FE-4FE5-AEFC-8407DD32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6E2-1B19-4D20-9EE1-60AA8701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61C8-2D91-4AF4-8147-BA5E5754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36F5B-4629-4547-A1BC-AA6B37F8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16E2-E83C-499C-A5BA-A0E3C32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BBA76-79EC-4526-8004-9CAB08A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57D80-7128-4EE8-A187-F2A371F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4B61-86FE-4E7B-AC58-5679E25E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55A9-8A26-4AD0-9942-6764AF4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1B90D-A441-4796-BE05-0C62F81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1933-D585-4361-88E8-424DAE2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3E4C-CD9D-49ED-8221-ED8ADB57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20D-0B53-48B1-8ECE-4DBFF11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93CC-49B0-4F27-A5A1-3C8765E5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A4BF-0622-451B-B887-220F85B0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4136-213B-49B4-8213-4D09EB07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3581-FDE3-4A83-A19C-52F97815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C0547-09AB-4BAA-90D6-5E0FBE6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0238-7BA1-4264-A93F-369EDF18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434FE-8CA2-40D7-9B8D-DECC8AD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F8B1C-31B0-4631-A33C-13F9F0F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1E17-37E9-4DF3-92B2-3FFEFB41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549C8-C11A-44E0-9C2E-74832BB2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C97-15F9-4964-9AB8-115F1F7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C413-AF3A-4CED-9398-01C2376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10F5-4FF3-45A6-8612-BD9CFAA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3118-1450-4994-9A37-02BC25EE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DC1AD-4E95-4F3C-AA6D-CBF8A3AD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E3CCD-85CA-4838-9541-1EA6F922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8C41-E9EA-414F-B0FF-9F36A6FC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DD02-387C-4C30-8E94-196E115C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17AC0-AAC4-4729-A7BC-CC16849D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B33BF-A0C9-4DBB-A5D9-D0FF29A9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6652-DBB4-46DA-A119-0EFE18F9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7A1-CAF0-40DC-A4F6-051FF10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9C73-3CA6-492A-82C1-376E639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8BCD-C81F-4021-B6F5-A68C7BD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869E7-62E9-49DE-A7BC-A28BB579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B9F8B-76D2-4BFF-B904-5E81A8F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53A1-2038-4873-B12B-11CF4A8D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AA997-720F-4849-B7FE-D75606EE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FD4CE-9A5B-4C09-A585-F72FBE38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F4682-D22B-4690-A81D-EBCB83E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3CDF8-9D06-4EBA-B83F-AE9E19C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D26F8-08D9-42A7-AAA6-15E8DAE5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09F92E3-1DCD-4921-AF32-4A5BD7C60C52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2062330-8906-4C9B-91D6-25BA1840F32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04C6B58-5BB2-49E9-B0EA-753D4D33298E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D9E99FD-372C-4848-9C71-401B0E2E5C9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11CD3BD-9A52-45A7-895A-E1006477136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AA2B47C-1E17-42A4-92B6-8B02A21EEA5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DDC2D58-60F3-4ADE-973A-89FC00612A52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6B2E1B9-E0F2-4100-B247-AA2AF17BF74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5498C19-4405-4966-A9A5-83FC55D9934E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1DFAA76-7AB8-4C8D-BF45-72FDAB19B131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FF86521-2C2E-4875-B077-EFB0D3C34D87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A1E771E-CFA3-4EC9-BCEF-93DCC66EEA8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9C9FC5E-A8D6-4B83-8E0A-6D0365F00C1C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DA35CC1-8BD3-4C73-9DD7-B041A3B60FBF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8B9BFEE-157C-4B8A-94F7-D3C889A868C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3412324-AB65-4B49-9C86-D12DE4B9C1C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78AE546-02C1-441C-9E21-11F7CAE7330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34548EA-ED75-4FFB-9D63-10149CAE13A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DA696C1-60FA-4720-8A58-020430D2796F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C3E7FF8-87BF-428C-BBD9-2F2FF8301C9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4193B5F-4F7A-4002-9C49-8DC2BB7DFA8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9A4ECE5-E71F-4CDA-80B6-EF3AEA45000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4B07077-F4D2-493E-AAEA-AE6E1846932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47E886E-EDAE-4ABF-A91A-7187C0F7637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1DEEE1A-9DBE-4650-84A4-D3503DD409C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E7A89AA-6635-400B-81EE-7DD6F909B0A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487440" y="1974960"/>
            <a:ext cx="90709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541" name="Группа 10"/>
          <p:cNvGrpSpPr/>
          <p:nvPr/>
        </p:nvGrpSpPr>
        <p:grpSpPr>
          <a:xfrm>
            <a:off x="235080" y="0"/>
            <a:ext cx="9434520" cy="1357200"/>
            <a:chOff x="235080" y="0"/>
            <a:chExt cx="9434520" cy="135720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235080" y="0"/>
              <a:ext cx="94345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E:\UDC\Конференція суддів\Untitled-1.gif"/>
            <p:cNvPicPr/>
            <p:nvPr/>
          </p:nvPicPr>
          <p:blipFill>
            <a:blip r:embed="rId3"/>
            <a:stretch/>
          </p:blipFill>
          <p:spPr>
            <a:xfrm>
              <a:off x="665280" y="271440"/>
              <a:ext cx="539640" cy="74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4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5" name="Picture 3" descr=""/>
            <p:cNvPicPr/>
            <p:nvPr/>
          </p:nvPicPr>
          <p:blipFill>
            <a:blip r:embed="rId4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6" descr="E:\UDC\Конференція суддів\Untitled-1.gif"/>
            <p:cNvPicPr/>
            <p:nvPr/>
          </p:nvPicPr>
          <p:blipFill>
            <a:blip r:embed="rId5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47" name="Нижний колонтитул 3"/>
          <p:cNvSpPr/>
          <p:nvPr/>
        </p:nvSpPr>
        <p:spPr>
          <a:xfrm>
            <a:off x="1352520" y="360360"/>
            <a:ext cx="855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судебная администрация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DC75DF9-0A39-433A-9FCF-AF20292C4B4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652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54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чая группа по вопросам иннов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360" y="1248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ctr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андартов функционирования суда 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проект «Совершенный суд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(Азиатско-Тихоокеанская судебная конференция, Сингапур, октябрь 201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Внешняя и внутренняя оценка деятельности суд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карточки гражданского опроса – более 7 500 анк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ратегического плана развития судебной систем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витие информационных технолог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Создание концепции коммуникационной политик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9080" y="166320"/>
            <a:ext cx="862668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атегического плана развития судебной системы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Объект 2" descr=""/>
          <p:cNvPicPr/>
          <p:nvPr/>
        </p:nvPicPr>
        <p:blipFill>
          <a:blip r:embed="rId3"/>
          <a:stretch/>
        </p:blipFill>
        <p:spPr>
          <a:xfrm>
            <a:off x="633240" y="1536840"/>
            <a:ext cx="8669520" cy="477828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1C9BBE9-E45A-4384-AA1B-1572EE78704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452520" y="1434960"/>
            <a:ext cx="2916000" cy="194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"/>
          <p:cNvPicPr/>
          <p:nvPr/>
        </p:nvPicPr>
        <p:blipFill>
          <a:blip r:embed="rId5"/>
          <a:stretch/>
        </p:blipFill>
        <p:spPr>
          <a:xfrm>
            <a:off x="6535800" y="4373640"/>
            <a:ext cx="276840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3727440" y="2541600"/>
            <a:ext cx="2521080" cy="29019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2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A605DD4-740D-4E20-B66C-44D03E26CDC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-3240" y="0"/>
            <a:ext cx="9907560" cy="1469880"/>
          </a:xfrm>
          <a:prstGeom prst="rect">
            <a:avLst/>
          </a:prstGeom>
          <a:ln w="0">
            <a:noFill/>
          </a:ln>
        </p:spPr>
      </p:pic>
      <p:sp>
        <p:nvSpPr>
          <p:cNvPr id="668" name="Заголовок 1"/>
          <p:cNvSpPr/>
          <p:nvPr/>
        </p:nvSpPr>
        <p:spPr>
          <a:xfrm>
            <a:off x="1352520" y="18900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дународная конференция, приуроченная к десятилетию Государственной судебной администрации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Прямоугольник 13"/>
          <p:cNvSpPr/>
          <p:nvPr/>
        </p:nvSpPr>
        <p:spPr>
          <a:xfrm>
            <a:off x="3511440" y="3409920"/>
            <a:ext cx="264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Прямоугольник 1" descr=""/>
          <p:cNvPicPr/>
          <p:nvPr/>
        </p:nvPicPr>
        <p:blipFill>
          <a:blip r:embed="rId3"/>
          <a:stretch/>
        </p:blipFill>
        <p:spPr>
          <a:xfrm>
            <a:off x="1262160" y="5589720"/>
            <a:ext cx="7381800" cy="5857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7" descr=""/>
          <p:cNvPicPr/>
          <p:nvPr/>
        </p:nvPicPr>
        <p:blipFill>
          <a:blip r:embed="rId4"/>
          <a:stretch/>
        </p:blipFill>
        <p:spPr>
          <a:xfrm>
            <a:off x="3730680" y="1700280"/>
            <a:ext cx="30542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51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BF84139-5F58-4B35-84B1-44262E539F0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У к р а и н а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2113200" y="2540160"/>
            <a:ext cx="320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арта + інформація про держав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5672160" y="1400040"/>
            <a:ext cx="41050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Население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45,6 миллиона (28-е в мире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Территория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45-я в мире (603 628 км²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5,7% территории Европ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Times New Roman"/>
              </a:rPr>
              <a:t>7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ей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8,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работников аппаратов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32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дел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9,4 миллиона (201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0" y="1392120"/>
            <a:ext cx="546732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5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61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8B1FA37-2A2D-4642-BF46-B45DF951B1A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 судов общей юрисдикции в Укра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152280" y="152280"/>
            <a:ext cx="990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152280" y="1701720"/>
            <a:ext cx="9464760" cy="5257800"/>
            <a:chOff x="152280" y="1701720"/>
            <a:chExt cx="9464760" cy="5257800"/>
          </a:xfrm>
        </p:grpSpPr>
        <p:sp>
          <p:nvSpPr>
            <p:cNvPr id="566" name="AutoShape 37"/>
            <p:cNvSpPr/>
            <p:nvPr/>
          </p:nvSpPr>
          <p:spPr>
            <a:xfrm>
              <a:off x="152280" y="1701720"/>
              <a:ext cx="946476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36"/>
            <p:cNvSpPr/>
            <p:nvPr/>
          </p:nvSpPr>
          <p:spPr>
            <a:xfrm>
              <a:off x="3299040" y="1701720"/>
              <a:ext cx="2971080" cy="457560"/>
            </a:xfrm>
            <a:prstGeom prst="flowChartProcess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Верховный Cуд Украи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556200" y="2541960"/>
              <a:ext cx="2628360" cy="874080"/>
            </a:xfrm>
            <a:prstGeom prst="flowChartProcess">
              <a:avLst/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хозяйствен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4"/>
            <p:cNvSpPr/>
            <p:nvPr/>
          </p:nvSpPr>
          <p:spPr>
            <a:xfrm>
              <a:off x="556200" y="3759120"/>
              <a:ext cx="2628360" cy="685440"/>
            </a:xfrm>
            <a:prstGeom prst="flowChartProcess">
              <a:avLst/>
            </a:prstGeom>
            <a:solidFill>
              <a:srgbClr val="6fa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8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3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3"/>
            <p:cNvSpPr/>
            <p:nvPr/>
          </p:nvSpPr>
          <p:spPr>
            <a:xfrm>
              <a:off x="556200" y="4788000"/>
              <a:ext cx="2628360" cy="685440"/>
            </a:xfrm>
            <a:prstGeom prst="flowChartProcess">
              <a:avLst/>
            </a:prstGeom>
            <a:solidFill>
              <a:srgbClr val="8a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7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32"/>
            <p:cNvSpPr/>
            <p:nvPr/>
          </p:nvSpPr>
          <p:spPr>
            <a:xfrm>
              <a:off x="6499440" y="2541960"/>
              <a:ext cx="2857680" cy="874080"/>
            </a:xfrm>
            <a:prstGeom prst="flowChartProcess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административ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31"/>
            <p:cNvSpPr/>
            <p:nvPr/>
          </p:nvSpPr>
          <p:spPr>
            <a:xfrm>
              <a:off x="6499440" y="3759120"/>
              <a:ext cx="2857680" cy="685440"/>
            </a:xfrm>
            <a:prstGeom prst="flowChartProcess">
              <a:avLst/>
            </a:prstGeom>
            <a:solidFill>
              <a:srgbClr val="3e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9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30"/>
            <p:cNvSpPr/>
            <p:nvPr/>
          </p:nvSpPr>
          <p:spPr>
            <a:xfrm>
              <a:off x="6499440" y="4788000"/>
              <a:ext cx="2857680" cy="685440"/>
            </a:xfrm>
            <a:prstGeom prst="flowChartProcess">
              <a:avLst/>
            </a:prstGeom>
            <a:solidFill>
              <a:srgbClr val="5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67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3527280" y="2541960"/>
              <a:ext cx="2629440" cy="858240"/>
            </a:xfrm>
            <a:prstGeom prst="flowChartProcess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специализированный суд Украины по рассмотрению гражданских и уголовных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де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8"/>
            <p:cNvSpPr/>
            <p:nvPr/>
          </p:nvSpPr>
          <p:spPr>
            <a:xfrm>
              <a:off x="3528360" y="3759120"/>
              <a:ext cx="2628360" cy="686160"/>
            </a:xfrm>
            <a:prstGeom prst="flowChartProcess">
              <a:avLst/>
            </a:prstGeom>
            <a:solidFill>
              <a:srgbClr val="95b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1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17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7"/>
            <p:cNvSpPr/>
            <p:nvPr/>
          </p:nvSpPr>
          <p:spPr>
            <a:xfrm>
              <a:off x="3527280" y="4788000"/>
              <a:ext cx="2628720" cy="685440"/>
            </a:xfrm>
            <a:prstGeom prst="flowChartProcess">
              <a:avLst/>
            </a:prstGeom>
            <a:solidFill>
              <a:srgbClr val="a7c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ст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666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8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AutoShape 12"/>
            <p:cNvCxnSpPr/>
            <p:nvPr/>
          </p:nvCxnSpPr>
          <p:spPr>
            <a:xfrm flipH="1">
              <a:off x="1809360" y="1929240"/>
              <a:ext cx="4680" cy="613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</a:ln>
          </p:spPr>
        </p:cxnSp>
        <p:cxnSp>
          <p:nvCxnSpPr>
            <p:cNvPr id="578" name="AutoShape 11"/>
            <p:cNvCxnSpPr/>
            <p:nvPr/>
          </p:nvCxnSpPr>
          <p:spPr>
            <a:xfrm flipV="1">
              <a:off x="1811160" y="3416040"/>
              <a:ext cx="1440" cy="3333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/>
            <p:nvPr/>
          </p:nvCxnSpPr>
          <p:spPr>
            <a:xfrm flipV="1">
              <a:off x="1811880" y="4452840"/>
              <a:ext cx="2160" cy="325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grpSp>
          <p:nvGrpSpPr>
            <p:cNvPr id="580" name=""/>
            <p:cNvGrpSpPr/>
            <p:nvPr/>
          </p:nvGrpSpPr>
          <p:grpSpPr>
            <a:xfrm>
              <a:off x="4787640" y="3415680"/>
              <a:ext cx="1800" cy="324000"/>
              <a:chOff x="4787640" y="3415680"/>
              <a:chExt cx="1800" cy="324000"/>
            </a:xfrm>
          </p:grpSpPr>
          <p:cxnSp>
            <p:nvCxnSpPr>
              <p:cNvPr id="581" name="AutoShape 9"/>
              <p:cNvCxnSpPr/>
              <p:nvPr/>
            </p:nvCxnSpPr>
            <p:spPr>
              <a:xfrm flipV="1">
                <a:off x="4787640" y="341568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2" name=""/>
              <p:cNvSpPr txBox="1"/>
              <p:nvPr/>
            </p:nvSpPr>
            <p:spPr>
              <a:xfrm rot="10800000">
                <a:off x="4787640" y="341568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788720" y="4443840"/>
              <a:ext cx="1080" cy="324000"/>
              <a:chOff x="4788720" y="4443840"/>
              <a:chExt cx="1080" cy="324000"/>
            </a:xfrm>
          </p:grpSpPr>
          <p:cxnSp>
            <p:nvCxnSpPr>
              <p:cNvPr id="584" name="AutoShape 8"/>
              <p:cNvCxnSpPr/>
              <p:nvPr/>
            </p:nvCxnSpPr>
            <p:spPr>
              <a:xfrm flipV="1">
                <a:off x="4789080" y="4443840"/>
                <a:ext cx="108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 txBox="1"/>
              <p:nvPr/>
            </p:nvSpPr>
            <p:spPr>
              <a:xfrm rot="10800000">
                <a:off x="4788720" y="444384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6" name="AutoShape 7"/>
            <p:cNvCxnSpPr/>
            <p:nvPr/>
          </p:nvCxnSpPr>
          <p:spPr>
            <a:xfrm flipV="1">
              <a:off x="7986600" y="34156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87" name="AutoShape 6"/>
            <p:cNvCxnSpPr/>
            <p:nvPr/>
          </p:nvCxnSpPr>
          <p:spPr>
            <a:xfrm flipV="1">
              <a:off x="7984800" y="44632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grpSp>
          <p:nvGrpSpPr>
            <p:cNvPr id="588" name=""/>
            <p:cNvGrpSpPr/>
            <p:nvPr/>
          </p:nvGrpSpPr>
          <p:grpSpPr>
            <a:xfrm>
              <a:off x="4789440" y="2158560"/>
              <a:ext cx="1800" cy="324000"/>
              <a:chOff x="4789440" y="2158560"/>
              <a:chExt cx="1800" cy="324000"/>
            </a:xfrm>
          </p:grpSpPr>
          <p:cxnSp>
            <p:nvCxnSpPr>
              <p:cNvPr id="589" name="AutoShape 5"/>
              <p:cNvCxnSpPr/>
              <p:nvPr/>
            </p:nvCxnSpPr>
            <p:spPr>
              <a:xfrm flipV="1">
                <a:off x="4789440" y="215856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4789440" y="215856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1" name="AutoShape 4"/>
            <p:cNvCxnSpPr/>
            <p:nvPr/>
          </p:nvCxnSpPr>
          <p:spPr>
            <a:xfrm>
              <a:off x="1814040" y="1929600"/>
              <a:ext cx="148536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92" name="AutoShape 3"/>
            <p:cNvCxnSpPr/>
            <p:nvPr/>
          </p:nvCxnSpPr>
          <p:spPr>
            <a:xfrm flipH="1">
              <a:off x="6269760" y="1929600"/>
              <a:ext cx="1711080" cy="21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93" name="AutoShape 2"/>
            <p:cNvCxnSpPr/>
            <p:nvPr/>
          </p:nvCxnSpPr>
          <p:spPr>
            <a:xfrm flipH="1">
              <a:off x="7980480" y="1929960"/>
              <a:ext cx="7200" cy="612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</a:ln>
          </p:spPr>
        </p:cxn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93A2BB1-9019-4E24-88DF-0868F8D3142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597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9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роблемы в обеспечении деятельности су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5000" y="1846440"/>
            <a:ext cx="8932680" cy="403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Дефицит финансовых ресурс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заработная плата работников аппаратов су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текущие расход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капит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ерегруженность судей и работников суд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около 120 дел в месяц на судью в 2011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uk-UA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1800" y="1599840"/>
            <a:ext cx="8640720" cy="4660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оустройстве и статусе судей" от 7 июля 2010 года</a:t>
            </a:r>
            <a:br>
              <a:rPr sz="2000"/>
            </a:br>
            <a:r>
              <a:rPr b="1" i="1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6E3F03F-4343-40A1-8297-36D86444A65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06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08" name="Прямоугольник 14"/>
          <p:cNvSpPr/>
          <p:nvPr/>
        </p:nvSpPr>
        <p:spPr>
          <a:xfrm>
            <a:off x="1306440" y="34920"/>
            <a:ext cx="8597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7101000" y="2709720"/>
            <a:ext cx="23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одержание каждого суда определяются в Законе о Государственном бюджете</a:t>
            </a:r>
            <a:r>
              <a:rPr b="1" lang="ru-RU" sz="1600" spc="-1" strike="noStrike">
                <a:solidFill>
                  <a:srgbClr val="4b4b4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92520" y="542916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удебную систему не могут сокращаться в течение текущего финансов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631800" y="270972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змер судейского вознаграждения закреплен на уровне зак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3048120" y="2882880"/>
            <a:ext cx="3760560" cy="20541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9"/>
          <p:cNvSpPr/>
          <p:nvPr/>
        </p:nvSpPr>
        <p:spPr>
          <a:xfrm>
            <a:off x="781200" y="409500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ctr">
              <a:buClr>
                <a:srgbClr val="7f7f7f"/>
              </a:buClr>
              <a:buFont typeface="Wingdings" charset="2"/>
              <a:buChar char="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012  году увеличилс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,4 раз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15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52160" y="0"/>
            <a:ext cx="8551800" cy="127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32D6E6E-C3C7-4E13-B7EE-CB78A7B534B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Объект 14" descr=""/>
          <p:cNvPicPr/>
          <p:nvPr/>
        </p:nvPicPr>
        <p:blipFill>
          <a:blip r:embed="rId3"/>
          <a:stretch/>
        </p:blipFill>
        <p:spPr>
          <a:xfrm>
            <a:off x="4230720" y="1951200"/>
            <a:ext cx="4376880" cy="443052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5"/>
          <p:cNvSpPr/>
          <p:nvPr/>
        </p:nvSpPr>
        <p:spPr>
          <a:xfrm>
            <a:off x="1352520" y="1411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ебном сборе" от 8 июля 2011 года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Диаграмма 17" descr=""/>
          <p:cNvPicPr/>
          <p:nvPr/>
        </p:nvPicPr>
        <p:blipFill>
          <a:blip r:embed="rId4"/>
          <a:stretch/>
        </p:blipFill>
        <p:spPr>
          <a:xfrm>
            <a:off x="725400" y="2227320"/>
            <a:ext cx="4565880" cy="24778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16"/>
          <p:cNvSpPr/>
          <p:nvPr/>
        </p:nvSpPr>
        <p:spPr>
          <a:xfrm>
            <a:off x="1135080" y="4581360"/>
            <a:ext cx="403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Размер бюджета судебной власти увеличился в 1,5 раза и составляет в 2012 году около 500 млн.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10"/>
          <p:cNvGrpSpPr/>
          <p:nvPr/>
        </p:nvGrpSpPr>
        <p:grpSpPr>
          <a:xfrm>
            <a:off x="3240" y="0"/>
            <a:ext cx="9905760" cy="1428840"/>
            <a:chOff x="3240" y="0"/>
            <a:chExt cx="9905760" cy="1428840"/>
          </a:xfrm>
        </p:grpSpPr>
        <p:pic>
          <p:nvPicPr>
            <p:cNvPr id="624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3240" y="0"/>
              <a:ext cx="9905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540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52160" y="135000"/>
            <a:ext cx="8551800" cy="1010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Гарант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финансирования судебной системы нуждаются в усиле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Объект 3" descr=""/>
          <p:cNvPicPr/>
          <p:nvPr/>
        </p:nvPicPr>
        <p:blipFill>
          <a:blip r:embed="rId3"/>
          <a:stretch/>
        </p:blipFill>
        <p:spPr>
          <a:xfrm>
            <a:off x="457200" y="1414440"/>
            <a:ext cx="8997840" cy="4827600"/>
          </a:xfrm>
          <a:prstGeom prst="rect">
            <a:avLst/>
          </a:prstGeom>
          <a:ln w="0">
            <a:noFill/>
          </a:ln>
        </p:spPr>
      </p:pic>
      <p:sp>
        <p:nvSpPr>
          <p:cNvPr id="62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0650EAC-BEC6-4B5C-814B-2220A020438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704880" y="204480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</a:rPr>
              <a:t>Разработаны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Объект 14" descr=""/>
          <p:cNvPicPr/>
          <p:nvPr/>
        </p:nvPicPr>
        <p:blipFill>
          <a:blip r:embed="rId1"/>
          <a:stretch/>
        </p:blipFill>
        <p:spPr>
          <a:xfrm>
            <a:off x="-1023840" y="1590840"/>
            <a:ext cx="12026880" cy="3865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rcRect l="15971" t="0" r="43692" b="0"/>
          <a:stretch/>
        </p:blipFill>
        <p:spPr>
          <a:xfrm>
            <a:off x="7327800" y="1701720"/>
            <a:ext cx="2197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32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33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E:\UDC\Конференція суддів\Untitled-1.gif"/>
            <p:cNvPicPr/>
            <p:nvPr/>
          </p:nvPicPr>
          <p:blipFill>
            <a:blip r:embed="rId4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9080" y="404280"/>
            <a:ext cx="8129520" cy="40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шаг в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306E45F-BEC5-489E-9F80-4D89BC90250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200160" y="2062080"/>
            <a:ext cx="494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5"/>
          <a:stretch/>
        </p:blipFill>
        <p:spPr>
          <a:xfrm>
            <a:off x="415800" y="1701720"/>
            <a:ext cx="2090880" cy="3603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6"/>
          <a:stretch/>
        </p:blipFill>
        <p:spPr>
          <a:xfrm>
            <a:off x="1496880" y="5580000"/>
            <a:ext cx="724860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41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7400" y="179280"/>
            <a:ext cx="8129520" cy="712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путь к сокращению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B25D160-2DA2-4E72-A1CB-D53FB035CF2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Объект 14" descr=""/>
          <p:cNvPicPr/>
          <p:nvPr/>
        </p:nvPicPr>
        <p:blipFill>
          <a:blip r:embed="rId3"/>
          <a:stretch/>
        </p:blipFill>
        <p:spPr>
          <a:xfrm>
            <a:off x="493560" y="1590840"/>
            <a:ext cx="8918640" cy="336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3765600" y="5014800"/>
            <a:ext cx="2374920" cy="1690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631800" y="1989000"/>
            <a:ext cx="2594160" cy="280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6"/>
          <a:stretch/>
        </p:blipFill>
        <p:spPr>
          <a:xfrm>
            <a:off x="6680160" y="1989000"/>
            <a:ext cx="2594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3:31Z</dcterms:created>
  <dc:creator/>
  <dc:description/>
  <dc:language>en-US</dc:language>
  <cp:lastModifiedBy/>
  <dcterms:modified xsi:type="dcterms:W3CDTF">2013-07-30T08:49:15Z</dcterms:modified>
  <cp:revision>1</cp:revision>
  <dc:subject/>
  <dc:title/>
</cp:coreProperties>
</file>