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D966-A9A8-4D32-97D0-EDDDC8343148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C6B4-2463-4D12-86CD-88695A625FA1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8997E96F-9B37-478F-AA32-4031B217B2CB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7F824705-A633-4958-9BE3-6811DF110FD8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8F911068-2314-41C6-8D50-A1E242EA6955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20EBDAB7-1777-410E-9203-D47A9834D8CE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70A0DB8B-443C-4ECF-A8E7-DA89367EE36C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91387AED-9743-477E-9541-C0517E14E648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Development and implementation of IT in the work of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309372D7-3DE2-439F-BA30-B1FD0C1B64FB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CA08FA91-4DC5-4770-81D7-238337DAAF08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Operational Support-priority development area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rts should have well-functioning business support that enables effective work and contributes to high qu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280" y="263664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user-friendly and effective technical assistance (judicial and administra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 and develop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mote the u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 that systems are secur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99AAC965-B573-40A0-9486-A9826892C1B7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F49F6213-8E8B-484E-B03D-C87D119144B0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case and task management system for all cou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" y="2133360"/>
            <a:ext cx="828180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be used f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gistration of c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tribution of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cument production – (Word) templ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ooking of meeting / facilities / equipment - calendar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duce docu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istics colle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between agenci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ording of audio and vid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03346A03-86D2-49CF-A44A-DA39EE003815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3F6161E7-DC72-46DC-918C-91CCC9936A08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ny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all employees in th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ud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w clerk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ret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lephone operato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eptioni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ministrators, etc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A824E1A4-421E-420D-BC00-95B7804F21E1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70BF8304-B76F-42F4-804C-16CFBF8559E6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Methods in the development of a computerized system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7786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support both current and future ways of working (”don’t add asphalt to the path”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9280" y="285264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velopment should begin with a general description of the courts' work processes (representatives from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11280" y="4365720"/>
            <a:ext cx="734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y to generalize and relate to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A6ED17FE-A019-465C-B71E-9FADC0AA2108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427F1815-0D04-4D7B-B0ED-34C7A3658450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ethods ….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lect a number of pilot courts for the various proce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7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916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minars and workshops with mixed categories of sta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68360" y="2781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ment in sta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loyment in stag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F45580F8-5C9B-47DB-B6AD-4C51A471F200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064AF74E-F9A9-4714-9AE1-6C313992DEDB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anagement of Vera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ys of receiving chang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360" y="2060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in the respectiv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8360" y="26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ent to the …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3213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hould be recorded in the intranet - visible to all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95280" y="414972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68360" y="4149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rs can follow what happens to th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39640" y="486900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way of prioritizing (reference grou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FC7B5F0C-5D70-4F2D-90A3-F10C4D4D07C9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4C837259-6D28-404E-AFAF-B88F7413CB88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How to see to that the system is used in every court in the most efficient way?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part of introducing the proje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llow-up vi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ssons-learned worksho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ul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etings with all court presid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of routine and skills invento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minars for various groups of us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urrent training for local teachers and systems administrator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0:23Z</dcterms:modified>
  <cp:revision>255</cp:revision>
  <dc:subject/>
  <dc:title>Sveriges Domstolar</dc:title>
</cp:coreProperties>
</file>