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BFAE-6025-4B2B-96C7-5D1704323189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3CC9-1412-41F8-8521-2BBA9F304863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380141B7-8D8B-41F9-80ED-0B0087DB1E11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8FEAD7B5-1616-48E1-96C2-6E074178040A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E4B8B014-734D-4C70-B2AE-96D68F309E14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39DE1B85-78D5-492B-85B4-6548D17D767F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1092EF27-FDE5-46A1-A863-0875222B000F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C1802EBD-C753-4EC4-92FE-1EC353C83A40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100"/>
              </a:spcBef>
              <a:spcAft>
                <a:spcPts val="18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Development and implementation of IT in the work of courts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3F88C7AA-BCA9-413F-8D80-65C96DB8CD1F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1257C684-E76A-4259-89D1-91B6BD7DE0F9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Operational Support-priority development area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urts should have well-functioning business support that enables effective work and contributes to high qua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9280" y="2636640"/>
            <a:ext cx="828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user-friendly and effective technical assistance (judicial and administrativ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 and develop 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mote the u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sure that systems are secur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470ABB82-39CD-457A-AB87-8035F4CEDFBC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4C9A349B-A5A1-4285-A473-ADE2C41DEA4D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case and task management system for all cou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" y="2133360"/>
            <a:ext cx="828180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be used f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gistration of c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tribution of ca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cument production – (Word) templa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ooking of meeting / facilities / equipment - calendar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duce docu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tistics colle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ion between agenci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ording of audio and vide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190FF996-93B2-4D10-84AB-1F405A3FA549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92E3F32C-BE6E-4EEB-8521-DDE2A0799564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ny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pport all employees in th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ud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w clerk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ret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h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lephone operato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eptioni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ministrators, etc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B47C4AE8-7F0A-4A07-BD11-609E8EADA0D7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4A74796A-64CF-42E0-A746-68C3F1FE0FEB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Methods in the development of a computerized system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7786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support both current and future ways of working (”don’t add asphalt to the path”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9280" y="285264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development should begin with a general description of the courts' work processes (representatives from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11280" y="4365720"/>
            <a:ext cx="734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y to generalize and relate to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63F57278-64B6-4213-9E3F-7EE76E4573F1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EC09D098-3FDB-4F3C-BCCF-1898BCA4A42B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ethods ….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lect a number of pilot courts for the various proces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7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9162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minars and workshops with mixed categories of staf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68360" y="278136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ment in sta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68360" y="3645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ployment in stag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AA43F8BC-1C99-4F99-A547-8856B0225F83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0BA91C44-FD11-44BE-B5C5-124E85E58863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anagement of Vera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ays of receiving chang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68360" y="206064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in the respectiv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68360" y="2637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ent to the …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321300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hould be recorded in the intranet - visible to all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95280" y="414972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68360" y="414972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rs can follow what happens to th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39640" y="4869000"/>
            <a:ext cx="822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way of prioritizing (reference group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B23211FC-A27F-414D-B082-C32A1BB79A0B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F6FD422C-9168-42E1-B9B1-4B72DAC8C055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How to see to that the system is used in every court in the most efficient way?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part of introducing the projec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llow-up vis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ssons-learned worksho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sul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etings with all court presid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of routine and skills invento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minars for various groups of us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urrent training for local teachers and systems administrator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20:23Z</dcterms:modified>
  <cp:revision>255</cp:revision>
  <dc:subject/>
  <dc:title>Sveriges Domstolar</dc:title>
</cp:coreProperties>
</file>