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7BBD-2842-4559-9262-7F73735ACC2A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E5B5-18C0-45D2-9741-8099F924E408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A47732D0-77C3-436A-8620-A06CC7E08349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A3DFF457-D51F-4C98-B042-1DA391D94873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5AB39B29-3477-4ADD-BEEE-E5A1B158FE1B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33F0451A-6486-4A33-A840-EF73B175F1C4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14004A9E-5B39-4EE3-8BFD-A4686698CED7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4F67A537-D014-4EE3-9B78-740CFFBA7AF2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100"/>
              </a:spcBef>
              <a:spcAft>
                <a:spcPts val="18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Development and implementation of IT in the work of courts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1B253ECA-808A-4BAD-96DD-1E0D9E00EDB3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FC9E6EA8-C942-42F1-994E-CFD7A964F9BB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Operational Support-priority development area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urts should have well-functioning business support that enables effective work and contributes to high qua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9280" y="2636640"/>
            <a:ext cx="8280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user-friendly and effective technical assistance (judicial and administrativ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e and develop sup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mote the u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sure that systems are secur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6747734F-AF2D-468D-8DBE-9C017D7E2DFE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DCEA9E36-258C-4A92-95CC-964E383D6DCE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075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case and task management system for all cou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" y="2133360"/>
            <a:ext cx="828180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be used f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gistration of c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tribution of ca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cument production – (Word) templa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ooking of meeting / facilities / equipment - calendar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duce docu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tistics colle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ion between agenci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ording of audio and vide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28676BE6-C5B0-43FA-A0F7-1D9078202D69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48886493-27D3-4295-BF44-2FC24951FA6D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ny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pport all employees in th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ud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w clerk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reta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h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lephone operato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eptioni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ministrators, etc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30DCA4A1-651A-4440-8CA8-C1B2C69A74E3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A6B0ECEA-608B-4D19-91DD-FA68B926AF2F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Methods in the development of a computerized system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7786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support both current and future ways of working (”don’t add asphalt to the path”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9280" y="285264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development should begin with a general description of the courts' work processes (representatives from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11280" y="4365720"/>
            <a:ext cx="734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y to generalize and relate to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8AA279A5-4A45-4D95-94F0-ECA929DDEDA3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1C72514F-FA46-4EE4-B7CC-EAE793C3AB17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ethods ….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424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lect a number of pilot courts for the various process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7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91628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minars and workshops with mixed categories of staf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68360" y="278136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ment in stag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68360" y="3645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ployment in stag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5348A3C8-4A44-411A-BAE7-1BECB6949539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D2C91854-0298-4AEA-824C-5D94636D170E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anagement of Vera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ays of receiving chang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68360" y="206064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in the respectiv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68360" y="2637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ent to the …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321300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hould be recorded in the intranet - visible to all us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95280" y="414972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68360" y="414972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rs can follow what happens to th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39640" y="4869000"/>
            <a:ext cx="822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way of prioritizing (reference group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E971F6DF-7AD6-46E3-A369-3FCEA5C52F14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96B8C15A-B5E5-4255-894B-1F038CD0310E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30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How to see to that the system is used in every court in the most efficient way?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 part of introducing the projec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llow-up visi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ssons-learned worksho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sul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etings with all court presid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fer of routine and skills invento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minars for various groups of us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urrent training for local teachers and systems administrator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20:23Z</dcterms:modified>
  <cp:revision>255</cp:revision>
  <dc:subject/>
  <dc:title>Sveriges Domstolar</dc:title>
</cp:coreProperties>
</file>