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5920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79A7-9659-47F4-A3E9-6A1A4392084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96C5-2C4A-484D-9B1B-B37DD731493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27F2-560C-4B8B-9201-C9F5D7B5983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78EE-4C3C-4BD1-A451-4642CDF7484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5 or 10 aggregates or dimen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DC12-8830-431D-9B3F-2B3C5B0A88B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982D-124A-4340-9223-A1BAE425D9A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8C9B-E88F-4D9D-B06A-DC186DF2DDC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5271-FB0B-4FF1-B310-32E9E05F058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40BF-6584-43FC-9F19-68746D4843F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0CE6-C66E-41D9-B290-FE2C92E085D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176F-ECD2-4014-BD06-CCF38666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2530-E7DD-4BB1-B863-6D13A543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23C2-C21B-4E27-BAFD-3C400BAC3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B2D6-4434-4105-A381-12A4ABC63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91ED-FBAD-4B3C-AC6D-B342E212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CA31-DCC3-44B7-9FF7-C0838B93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7F62-BE7C-4B3F-B2B2-F15DEC25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0FE5-E1DB-4EBF-B3C3-6F2BD02B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E6B1-5556-4A6F-8F63-8C3E6E73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1405-F54B-4C71-BA13-41790FC3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D78D-97B5-40AF-89F0-98E3FE6A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52C3-CF48-4707-9733-D9387360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1787-D218-49DC-A13A-C1837ADE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7943-020F-44DA-A647-60F1AE6F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A68F-5E7F-4CF8-8E3D-603FF2EE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6A87-22B4-480D-BA0F-E469057B7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B6E1-4912-40B1-9D35-3F84B05A3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BB8E-6A21-4091-A731-C2CE815A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620A-8D9F-446A-998F-0E556303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4CD8-6E4B-45D6-AD9C-FBDEFEE1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F8D3-ECCE-4E16-A050-16440C24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9D8E-B311-41AF-A563-7216F029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4A89-F01A-4952-AC92-D263A4CA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3300-3684-49C9-B477-CBBBEC74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18DF-DA60-4A1F-82AB-DE495819E49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BDC1-D6DB-4B69-B07E-30012F1BFF0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2920" y="98064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Задоволеність кл</a:t>
            </a:r>
            <a:r>
              <a:rPr b="0" lang="uk-UA" sz="4000" spc="-1" strike="noStrike">
                <a:solidFill>
                  <a:srgbClr val="006666"/>
                </a:solidFill>
                <a:latin typeface="Arial"/>
              </a:rPr>
              <a:t>ієнта</a:t>
            </a: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 в державному управлінні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2880" y="3427560"/>
            <a:ext cx="6259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Очікування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 – 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Досвід</a:t>
            </a:r>
            <a:br>
              <a:rPr sz="3200"/>
            </a:b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Репутація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– 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Задоволеність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31640" y="1844640"/>
            <a:ext cx="36003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ДО звернення в Суд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292720" y="1916280"/>
            <a:ext cx="3166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ПІСЛЯ звернення в Суд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18" descr="courthouse"/>
          <p:cNvPicPr/>
          <p:nvPr/>
        </p:nvPicPr>
        <p:blipFill>
          <a:blip r:embed="rId1"/>
          <a:stretch/>
        </p:blipFill>
        <p:spPr>
          <a:xfrm>
            <a:off x="1042920" y="3213000"/>
            <a:ext cx="3270240" cy="2556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2" descr="courthouse"/>
          <p:cNvPicPr/>
          <p:nvPr/>
        </p:nvPicPr>
        <p:blipFill>
          <a:blip r:embed="rId2"/>
          <a:stretch/>
        </p:blipFill>
        <p:spPr>
          <a:xfrm>
            <a:off x="5219640" y="3284640"/>
            <a:ext cx="3270240" cy="255564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23"/>
          <p:cNvSpPr/>
          <p:nvPr/>
        </p:nvSpPr>
        <p:spPr>
          <a:xfrm>
            <a:off x="1979640" y="5661000"/>
            <a:ext cx="1295280" cy="936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AutoShape 24"/>
          <p:cNvSpPr/>
          <p:nvPr/>
        </p:nvSpPr>
        <p:spPr>
          <a:xfrm>
            <a:off x="6516720" y="5734080"/>
            <a:ext cx="1150920" cy="93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25" descr="sb"/>
          <p:cNvPicPr/>
          <p:nvPr/>
        </p:nvPicPr>
        <p:blipFill>
          <a:blip r:embed="rId3"/>
          <a:stretch/>
        </p:blipFill>
        <p:spPr>
          <a:xfrm>
            <a:off x="468360" y="2708280"/>
            <a:ext cx="1366920" cy="1239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6" descr="ok"/>
          <p:cNvPicPr/>
          <p:nvPr/>
        </p:nvPicPr>
        <p:blipFill>
          <a:blip r:embed="rId4"/>
          <a:stretch/>
        </p:blipFill>
        <p:spPr>
          <a:xfrm>
            <a:off x="7451640" y="2708280"/>
            <a:ext cx="1481400" cy="139716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27"/>
          <p:cNvSpPr/>
          <p:nvPr/>
        </p:nvSpPr>
        <p:spPr>
          <a:xfrm>
            <a:off x="3924360" y="4149720"/>
            <a:ext cx="1584360" cy="1224000"/>
          </a:xfrm>
          <a:prstGeom prst="leftRightArrow">
            <a:avLst>
              <a:gd name="adj1" fmla="val 50000"/>
              <a:gd name="adj2" fmla="val 25768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Різне сприйняття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лієнт зазвичай приймає як належне і професійні і технічні аспекти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стачальник зосереджується на технічних і професійних аспектах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лієнт зосереджується на якості впровадження і якості відносин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одаткова інформація (технічні аспекти) = більше задоволення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Розмежованість / Послідовність аналізу 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70160" y="1827360"/>
          <a:ext cx="7313400" cy="3879720"/>
        </p:xfrm>
        <a:graphic>
          <a:graphicData uri="http://schemas.openxmlformats.org/drawingml/2006/table">
            <a:tbl>
              <a:tblPr/>
              <a:tblGrid>
                <a:gridCol w="3657600"/>
                <a:gridCol w="3655800"/>
              </a:tblGrid>
              <a:tr h="473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ристувач</a:t>
                      </a:r>
                      <a:r>
                        <a:rPr b="1" lang="it-IT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давець</a:t>
                      </a:r>
                      <a:r>
                        <a:rPr b="1" lang="it-IT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2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9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чікувана якість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кість - ціль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4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приймана якість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антує якість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Циклічність задоволеності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6" name="Diagram 5"/>
          <p:cNvGrpSpPr/>
          <p:nvPr/>
        </p:nvGrpSpPr>
        <p:grpSpPr>
          <a:xfrm>
            <a:off x="1785240" y="2147760"/>
            <a:ext cx="5432400" cy="4474800"/>
            <a:chOff x="1785240" y="2147760"/>
            <a:chExt cx="5432400" cy="4474800"/>
          </a:xfrm>
        </p:grpSpPr>
        <p:sp>
          <p:nvSpPr>
            <p:cNvPr id="137" name="_s1028"/>
            <p:cNvSpPr/>
            <p:nvPr/>
          </p:nvSpPr>
          <p:spPr>
            <a:xfrm>
              <a:off x="2796120" y="2147760"/>
              <a:ext cx="3411000" cy="3096360"/>
            </a:xfrm>
            <a:custGeom>
              <a:avLst/>
              <a:gdLst>
                <a:gd name="textAreaLeft" fmla="*/ 0 w 3411000"/>
                <a:gd name="textAreaRight" fmla="*/ 3411360 w 3411000"/>
                <a:gd name="textAreaTop" fmla="*/ 0 h 3096360"/>
                <a:gd name="textAreaBottom" fmla="*/ 3096720 h 309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_s1029"/>
            <p:cNvSpPr/>
            <p:nvPr/>
          </p:nvSpPr>
          <p:spPr>
            <a:xfrm rot="7200000">
              <a:off x="3418560" y="2723760"/>
              <a:ext cx="3096000" cy="3410640"/>
            </a:xfrm>
            <a:custGeom>
              <a:avLst/>
              <a:gdLst>
                <a:gd name="textAreaLeft" fmla="*/ 0 w 3096000"/>
                <a:gd name="textAreaRight" fmla="*/ 3096360 w 3096000"/>
                <a:gd name="textAreaTop" fmla="*/ 0 h 3410640"/>
                <a:gd name="textAreaBottom" fmla="*/ 3411000 h 341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_s1030"/>
            <p:cNvSpPr/>
            <p:nvPr/>
          </p:nvSpPr>
          <p:spPr>
            <a:xfrm rot="14400000">
              <a:off x="2487960" y="2723040"/>
              <a:ext cx="3096000" cy="3411000"/>
            </a:xfrm>
            <a:custGeom>
              <a:avLst/>
              <a:gdLst>
                <a:gd name="textAreaLeft" fmla="*/ 0 w 3096000"/>
                <a:gd name="textAreaRight" fmla="*/ 3096360 w 3096000"/>
                <a:gd name="textAreaTop" fmla="*/ 0 h 3411000"/>
                <a:gd name="textAreaBottom" fmla="*/ 3411360 h 341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_s1031"/>
            <p:cNvSpPr/>
            <p:nvPr/>
          </p:nvSpPr>
          <p:spPr>
            <a:xfrm>
              <a:off x="5435640" y="2712960"/>
              <a:ext cx="1368000" cy="12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900" spc="-1" strike="noStrike">
                  <a:solidFill>
                    <a:srgbClr val="000000"/>
                  </a:solidFill>
                  <a:latin typeface="Verdana"/>
                </a:rPr>
                <a:t>Оцінка</a:t>
              </a:r>
              <a:endParaRPr b="0" lang="en-US" sz="3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_s1032"/>
            <p:cNvSpPr/>
            <p:nvPr/>
          </p:nvSpPr>
          <p:spPr>
            <a:xfrm>
              <a:off x="3816360" y="5261040"/>
              <a:ext cx="136836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900" spc="-1" strike="noStrike">
                  <a:solidFill>
                    <a:srgbClr val="000000"/>
                  </a:solidFill>
                  <a:latin typeface="Verdana"/>
                </a:rPr>
                <a:t>Доповідь</a:t>
              </a:r>
              <a:endParaRPr b="0" lang="en-US" sz="3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_s1033"/>
            <p:cNvSpPr/>
            <p:nvPr/>
          </p:nvSpPr>
          <p:spPr>
            <a:xfrm>
              <a:off x="2195640" y="2714760"/>
              <a:ext cx="1368360" cy="12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900" spc="-1" strike="noStrike">
                  <a:solidFill>
                    <a:srgbClr val="000000"/>
                  </a:solidFill>
                  <a:latin typeface="Verdana"/>
                </a:rPr>
                <a:t>Вдосконалення</a:t>
              </a:r>
              <a:endParaRPr b="0" lang="en-US" sz="39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Методологія оцінки задоволеності споживач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устаткованість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надійність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чуйність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компетентність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доступність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ввічливість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комунікація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достовірність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запевнення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емпаті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1.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Устаткування, надійність, чуйність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Устаткування: поява фізичних засобів, обладнання; персонал та інформаційні матеріали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адійність: здатність виконувати обіцяні послуги надійно і точно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еративність: бажання допомогти клієнтам і забезпечити оперативне обслуговування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2.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«компетентність, ввічливість, авторитет»  3 ССС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омпетенція: володіння необхідними навичками і знаннями для виконання послуг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иявляти: ввічливість, повагу, увагу і дружелюбність персоналу контакт 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редитоспроможність: надійність, реалістичність, чесність постачальника послуг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3.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Запевнення, доступність, комунікативність, емпатія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тіха: свобода від небезпеки або сумнівів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Доступ: доступністю і простотою в контактуванні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омунікативність: Слухає своїх клієнтів і підтверджує їх зауваження. Інформує клієнтів - мовою, яку вони можуть зрозуміти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озуміння замовника: додавати зусиль, спрямованих на пізнання клієнтів та їх потреб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1.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Чинники якості в суді: матеріальна забезпеченість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Функціональність будівлю суду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Чистота в залі суду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Доступність залів судових засідан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Сировинні товари та комунальні послуги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Присутність співробітників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Наявність інформації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Гнучкість робочого графіку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Зовнішнє розпізнавання працівників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Рівень інформатизації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2.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Чинники якості в суді: Надійність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Допоміжні можливості працівників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розорість / Коректність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Керівництво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Компетентне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Підготовлене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Точне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Надійне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Короткий огляд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Що означає задоволеність клієнта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Хто вважається клієнтом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Чому ми повинні оцінювати задоволеність клієнтів? 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Яким чином оцінити задоволеність клієнтів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Хто повинен цим займатися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3.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Чинники якості в суді: Оперативність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вічливість працівників (персональна / по телефону)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воєчасність виконання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півробітники готові дати відповідь на питання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нучкий або бюрократичний підхід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4. 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Чинники якості в суді: Доступність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 телефону, електронною поштою, веб-порталами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Чи легко знайти те, що вам потрібно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Чи достатній доступ для інвалідів, меншин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розумілість форм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розумілість сигналів / інструкцій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5.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Чинники якості в суді: Зв'язок / Співчуття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міння слухати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мога допомоги клієнту сформулювати його ж потреби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офілактика / скорочення помилок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ідкритість для клієнта скарги /пропозиції / претензії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Як оцінити / що оцінити?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ширення анкет-опитувань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Телефонувати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айте вашим клієнтам спосіб оголосити скаргу, дати вказівку, щодо скарг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ідповідаючи на запитання, зосередити увагу на цілий ряд послуг, або одного або двох секторів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Що потрібно оцінювати: 5 П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олітика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роцеси;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рості Люди;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риміщення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родукт/послуг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МІЖНАРОДНИЙ ІНСТИТУТ СЛУЖБИ СПОЖИВАЧІВ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Хто цим займається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Інтерв'ю може бути зроблено фахівцями або Вами особисто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ля людей, які користувались або можуть зкористатися судовими послугами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--Націленість на адвокатів, громадян і  т.д. і т.п.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Як оцінити задовільність: шкала Лайкерта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"Пункт": (позитивне або негативне) заяви повинні оцінюватися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'ять можливих відповідей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Я рішуче не згодний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Я не згодний;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Швидше згодний, як ні;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Я згодний;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Я абсолютно згодний.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ідповіді потім сумуютьс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Анкетування 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 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винні уникати неясної термінології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итання повинні задаватися в нейтральній формі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удьте впевнені, що опитані знають про, що ви говорите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итання не повинні вимагати зусиль пам'яті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дин з аспектів по кожному пункту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ам'ятайте, що ви оцінюєте відчуття (Психометрія)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Приклад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" Співробітники Суду ввічливі і професійні"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Я рішуче не згодний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Я не згодний;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Я швидше згодний, як ні;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Я згодний;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Я абсолютно згодний.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Що далі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44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Доповідь прозорості (так як в Хартії надання послуг)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Уроки: обговорити із співробітниками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кращення того, що може бути покращено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Клієнт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”</a:t>
            </a: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 -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це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…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соба, що має матеріальний досвід наших послуг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"Потенційні" клієнти можуть надати інформацію про репутацію (наприклад, очікування) послуг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Ключові слова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розоріст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Вислуховуванн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Розумінн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Відкритіст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Налаштованість на громадян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Якіст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Постачальник” – це…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ой, хто надає послуги громадськості і організовує їх виконання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Щодо таке задоволеність клієнт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адоволеність клієнтів є способом надання послуг за яким Ви перевершуєте іх очікування (не обдурити громадян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начення задоволеності це прорив між очікуваннями та досвідом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... чому ми повинні про це дбати?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державній службі, як правило, монополістичній, вимірювання клієнтської задоволеності це єдиний спосіб оцінки продуктивності. Приватні компанії мають інші інструменти оцінки, такі як прибуток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помагає постачальниками державних послуг послуг вибирати пріоритети втручання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Допомагає поліпшити якість обслуговування і репутацію постачальника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Задовільність додає цінності продукту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Виконання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датність впровадити інституційні цілі державної служби"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1908000" y="386064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372360" y="321300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бажана державна м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6516720" y="4581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отрима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2050920" y="3860640"/>
            <a:ext cx="54738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468360" y="4572000"/>
            <a:ext cx="403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Де Ви досягне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Як Ви досягне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На стороні постачальника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, 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виконання це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…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7160" y="1827360"/>
            <a:ext cx="7826400" cy="47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одуктивність (потенціал перетворення фактору виробництва в продукті: вхідний -&gt; вихідний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Ефективність (працює або працює у спосіб, який дає бажаний результат без будь-яких зволікань) 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 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Ефективність: очікувані результат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28440" y="301320"/>
            <a:ext cx="7754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Зі сторони клієнта, виконання - це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Ефективність: метод яким державні послуги задовільняють потребу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адоволення потреб клієнтів вказує на різницю між продуктивністю очікувану клієнтом та передбачуваний досвід у їх виконанні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5:38:01Z</dcterms:created>
  <dc:creator>pippo</dc:creator>
  <dc:description/>
  <dc:language>en-US</dc:language>
  <cp:lastModifiedBy>lipovyi</cp:lastModifiedBy>
  <dcterms:modified xsi:type="dcterms:W3CDTF">2013-08-01T09:29:21Z</dcterms:modified>
  <cp:revision>57</cp:revision>
  <dc:subject/>
  <dc:title>Customer Satisfaction in the Public Administ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0</vt:r8>
  </property>
  <property fmtid="{D5CDD505-2E9C-101B-9397-08002B2CF9AE}" pid="3" name="Version">
    <vt:r8>1</vt:r8>
  </property>
</Properties>
</file>