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676E-BC4A-41F7-88AA-43837ABC0FD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BBF4-6937-405C-8E03-9B42D92283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C7FD-0533-4A8E-801D-41CC9763FEF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3CB8-F4CF-404E-907E-7762C61F57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59CD-AAD4-441B-820D-2B42E289C4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BC37-838A-4B44-B15D-1188540D70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512-0015-4732-86F0-79827411F8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D01D-A202-4AE3-96DC-B37EE87EC0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D076-6E40-4D30-A38C-CCF1C27B706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1BA-7F8C-47BD-85E1-82C42DF8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DD5-D97B-403F-A321-A2F33B36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CF8-1E0B-45F6-A75A-6898B1ED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3D8-EA43-4A98-A800-BDFC03EB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4111-C7D4-4108-96BF-C49D46D7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592E-4764-43A7-BC3B-2ED36433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4CE4-3F21-468C-92F6-0B641F85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D6CD-E957-43FA-BA6F-6BF7913A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E74D-4EB4-4A13-8D17-FDEED6E1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8BB6-4C42-4EDD-AA62-B40EA30A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5A55-21C5-4FB4-A216-94780FB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977-DCF0-4278-9E05-057E776C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6FD9-284E-41ED-BB49-FFCC0E9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BFE3-8D20-4123-A088-C610F30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9F4F-34B0-4FF7-AC69-7FAEA034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B295-6BA1-4153-84C0-7C8BA517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E15B-BCCC-4127-84ED-7F01A6F7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139-0DEE-4352-B7AB-E808D92A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02F-EDD9-4CD2-9173-AFE59C9F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E7C-566F-487C-A9CC-376CE557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B25-4AF3-4E90-8E0F-CB44F766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90D-E880-47B5-AA7D-3C3505FD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D28-6C58-4E9D-93AE-750201A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1FB-C467-4A38-88E2-D743710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6354-2AA2-41B9-8956-C8D75360E5F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AC19-D5B6-448F-A5B8-14CD6ECA8F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66"/>
                </a:solidFill>
                <a:latin typeface="Arial"/>
              </a:rPr>
              <a:t>Customer Satisfaction in the Public Administr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Expectation – Experience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eputation  – Satisfac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BEFORE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fter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Different percep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normally takes for granted tech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vider focusses on tec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focusses on the quality of delivery and of the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ore informations (on technical aspects) = more satisf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Gap / coherence analysis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en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ct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targe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iv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grant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The Cycle of Satisfa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857960" y="2147760"/>
            <a:ext cx="5432760" cy="4474800"/>
            <a:chOff x="1857960" y="2147760"/>
            <a:chExt cx="5432760" cy="4474800"/>
          </a:xfrm>
        </p:grpSpPr>
        <p:sp>
          <p:nvSpPr>
            <p:cNvPr id="137" name="_s1028"/>
            <p:cNvSpPr/>
            <p:nvPr/>
          </p:nvSpPr>
          <p:spPr>
            <a:xfrm>
              <a:off x="2868840" y="2147760"/>
              <a:ext cx="3411360" cy="3096360"/>
            </a:xfrm>
            <a:custGeom>
              <a:avLst/>
              <a:gdLst>
                <a:gd name="textAreaLeft" fmla="*/ 0 w 3411360"/>
                <a:gd name="textAreaRight" fmla="*/ 3411720 w 341136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91640" y="272340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561040" y="2723400"/>
              <a:ext cx="3096000" cy="341136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360"/>
                <a:gd name="textAreaBottom" fmla="*/ 3411720 h 34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50872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900" spc="-1" strike="noStrike">
                  <a:solidFill>
                    <a:srgbClr val="000000"/>
                  </a:solidFill>
                  <a:latin typeface="Verdana"/>
                </a:rPr>
                <a:t>Assess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8944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Verdana"/>
                </a:rPr>
                <a:t>Report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26836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000000"/>
                  </a:solidFill>
                  <a:latin typeface="Verdana"/>
                </a:rPr>
                <a:t>Improve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Customer Satisfaction assessment  methodology: the SERVQUAL mod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tangibl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liability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ce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urtes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redibilit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assur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empat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Tangibles, Reliability,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angibles: Appearance of physical facilities, equipment, personnel, and communication materi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liability: Ability to perform the promised service dependably and accuratel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sponsiveness: Willingness to help customers and provide prompt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“CCC”: Competence, Courtesy, Cred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petence: Possession of required skill and knowledge to perform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esy: Politeness, respect, consideration and friendliness of contact personnel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redibility: trustworthiness, believability, honesty of the service provid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Reassurance, Accessibility, Communication, 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assurance: freedom from risk or doub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: Approachability and ease of contac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: Listens to its customers and acknowledges their comments. Keeps customers informed - in a language which they can understand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Understanding the customer: Making the effort to know customers and their need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Drivers of quality in a Court: Tangib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unctionality of the Court buil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eanliness of the Court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ccessibility of the Courtroo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modities and uti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appearan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vailability of inform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usiness hours are comfort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are recogniz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evel of informatis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Drivers of quality in a Court: Reli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Helpfulnes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 / Correct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ront offic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pa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ci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Summar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at is Customer Satisfac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is the Customer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y we should assess 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ow can we assess Customer Satisfa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should do i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Drivers of quality in a Court: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Courtesy (in person /by pho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imeliness of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give ready response to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lexible or bureucratic approa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Drivers of quality in a Court: Acces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y phone, e-mail,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easy to find what you nee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accessible to handicapped, minoriti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fo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signals/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Drivers of quality in a Court: Communication /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listen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assisting the customer articulate his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vention /reduction of mistak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 to Customer Complaint /feedback /clai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How to assess and what to ass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Disseminate questionnai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ake phone cal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Give your clients a way to air complaints, to give feedback, to present compl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 questionnaires, focus on the whole range of services or one or two sec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to assess: the 5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licy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ces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eople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mi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duct/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The International Customer Service Institu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o is doing 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terviews can be done by professionals or by yoursel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o people who have experienced or are likely to experience Court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.g: target on lawyers, citizens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How to assess satisfaction: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the Likert sc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tem”: a (positive or negative) statement to be evalu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ive answers possibl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nswers are then summ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Questionnaires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avoid obscure termi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present questions in a neutral 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e sure that interviewed know what you are talking ab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not require memory eff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ne aspect per i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meber you are assessing sensations (psychometry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 employees are courteous and professional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nex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eport transparently (e.g: in the Service Charter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arn lessons: discuss with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ct to improve what can be impr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Customer” is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 person who has a material experience of our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tential” customers can provide info about reputation (e.g.: expectations) of the serv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Key word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iste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itizen-oriented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rovider” is…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e who provides a public service and organizes its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is Customer Satisfaction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is the way services provided meet / surpass / delude citizens’ expect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value of Satisfaction is the gap between expectations and exper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and why we should care??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n a public service, which is normally monopolistic, measuring CS is the only way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assess the perform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Private companies have other tools such as </a:t>
            </a:r>
            <a:r>
              <a:rPr b="0" lang="it-IT" sz="2500" spc="-1" strike="noStrike" u="sng">
                <a:solidFill>
                  <a:srgbClr val="000000"/>
                </a:solidFill>
                <a:uFillTx/>
                <a:latin typeface="Verdana"/>
              </a:rPr>
              <a:t>profit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public services providers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choos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prioriti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interven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to improve servic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nd th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putation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the provi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Satisfaction adds value to the produ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erformanc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capacity of pursuing the institutional purpose of a public servic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sired End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508464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ERE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HOW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Provider side, performance is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Productivit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the capacity of turning factors of production into a product: input -&gt; output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icienc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working or operating in a way that gets the results you want without any waste)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ectiveness: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producing the intended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Customer side,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performance is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ffectiveness: the way a public service satisfies a n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analizes the gap between the customer's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ctation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 and their perceived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rience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07Z</dcterms:modified>
  <cp:revision>13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