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6670-F3B1-4A36-9E9D-38F8185C9E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6EF8-EE59-4776-9A0D-31A207D144C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2D11-5003-4BD8-9F36-3893A69A115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2B90-4633-49D9-A311-13DC60F3C4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B435-732E-4F99-8630-EFAE3EED8E7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0732-E8B3-42CA-8770-CEF7DC01D0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17CB-4070-45DA-AA1B-665DB7CF74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93A3-4145-428C-B080-F2ABC7C2C6A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6E6-CA96-4BA7-A962-186BF6C5B7D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FE2-5380-4B5E-9530-8799AEE3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6C8-69D7-4670-8385-ACE640D5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3E5-8D4B-41D8-AE11-21677147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9B6-88E9-420A-97EC-0F650AC6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7060-AD55-4885-B89A-F7239548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037A-CA83-4D46-8782-015E80B6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AB7B-B127-4BFB-8BDF-1C2B78E9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0294-85A5-4AC5-8A01-20C21E74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B527-3B7B-4458-9D58-0C8231D1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9412-1511-4F65-99B6-78FBEE9D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AA9E-2B2E-4AF0-9DDC-E416488A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65A-A035-4CE9-B711-1FC855DC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D3A6-0CDD-45AE-9DC6-E2B44754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4662-6EEC-44B4-B9E6-021AF8A7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C46D-BC8E-441B-A3B9-57F28303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42A9-FC07-4833-8C40-A92F2F2C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F369-F5ED-4A29-8D40-28984524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D5E-F721-44BB-A26C-231846FD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D29-F09E-4584-B0E1-3469C489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055-0C86-45C2-93FE-8B8C3F05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301-DB8F-4A84-BE9B-A252A0EA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0C9-2842-416A-9C27-23AD0D90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69B-EC67-4B82-A777-C33EAD67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F22-D1C7-4248-AA4B-5FC49147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E591-6085-406D-A632-0B602FCCC3F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4A2C-3F4F-445B-B118-68A5E31654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66"/>
                </a:solidFill>
                <a:latin typeface="Arial"/>
              </a:rPr>
              <a:t>Customer Satisfaction in the Public Administr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Expectation – Experience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eputation  – Satisfac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BEFORE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fter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Different percep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normally takes for granted tech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vider focusses on tec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focusses on the quality of delivery and of the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ore informations (on technical aspects) = more satisf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Gap / coherence analysis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en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ct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targe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iv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grant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The Cycle of Satisfa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857960" y="2147760"/>
            <a:ext cx="5432760" cy="4474800"/>
            <a:chOff x="1857960" y="2147760"/>
            <a:chExt cx="5432760" cy="4474800"/>
          </a:xfrm>
        </p:grpSpPr>
        <p:sp>
          <p:nvSpPr>
            <p:cNvPr id="137" name="_s1028"/>
            <p:cNvSpPr/>
            <p:nvPr/>
          </p:nvSpPr>
          <p:spPr>
            <a:xfrm>
              <a:off x="2868840" y="2147760"/>
              <a:ext cx="3411360" cy="3096360"/>
            </a:xfrm>
            <a:custGeom>
              <a:avLst/>
              <a:gdLst>
                <a:gd name="textAreaLeft" fmla="*/ 0 w 3411360"/>
                <a:gd name="textAreaRight" fmla="*/ 3411720 w 341136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91640" y="272340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561040" y="2723400"/>
              <a:ext cx="3096000" cy="341136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360"/>
                <a:gd name="textAreaBottom" fmla="*/ 3411720 h 34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50872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900" spc="-1" strike="noStrike">
                  <a:solidFill>
                    <a:srgbClr val="000000"/>
                  </a:solidFill>
                  <a:latin typeface="Verdana"/>
                </a:rPr>
                <a:t>Assess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8944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Verdana"/>
                </a:rPr>
                <a:t>Report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26836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500" spc="-1" strike="noStrike">
                  <a:solidFill>
                    <a:srgbClr val="000000"/>
                  </a:solidFill>
                  <a:latin typeface="Verdana"/>
                </a:rPr>
                <a:t>Improve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Customer Satisfaction assessment  methodology: the SERVQUAL mod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tangibl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liability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sponsivenes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ce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urtes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redibilit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assur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empat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Tangibles, Reliability,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angibles: Appearance of physical facilities, equipment, personnel, and communication materi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liability: Ability to perform the promised service dependably and accuratel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sponsiveness: Willingness to help customers and provide prompt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“CCC”: Competence, Courtesy, Cred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petence: Possession of required skill and knowledge to perform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esy: Politeness, respect, consideration and friendliness of contact personnel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redibility: trustworthiness, believability, honesty of the service provide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Reassurance, Accessibility, Communication, 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assurance: freedom from risk or doub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: Approachability and ease of contac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: Listens to its customers and acknowledges their comments. Keeps customers informed - in a language which they can understand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Understanding the customer: Making the effort to know customers and their need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Drivers of quality in a Court: Tangibl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unctionality of the Court buil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eanliness of the Court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ccessibility of the Courtroo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modities and uti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appearan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vailability of inform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usiness hours are comfort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are recogniz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evel of informatis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Drivers of quality in a Court: Reli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Helpfulnes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 / Correct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ront office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pa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ci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Summary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at is Customer Satisfac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is the Customer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y we should assess C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ow can we assess Customer Satisfa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should do i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Drivers of quality in a Court: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Courtesy (in person /by phon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imeliness of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give ready response to 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lexible or bureucratic approa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Drivers of quality in a Court: Access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y phone, e-mail,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easy to find what you nee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accessible to handicapped, minoriti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fo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signals/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Drivers of quality in a Court: Communication /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listen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assisting the customer articulate his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vention /reduction of mistak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 to Customer Complaint /feedback /clai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How to assess and what to ass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Disseminate questionnai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ake phone cal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Give your clients a way to air complaints, to give feedback, to present compl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 questionnaires, focus on the whole range of services or one or two sec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to assess: the 5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licy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ces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eople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mi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duct/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The International Customer Service Institu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o is doing 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terviews can be done by professionals or by yoursel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o people who have experienced or are likely to experience Court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.g: target on lawyers, citizens etc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How to assess satisfaction: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the Likert sc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tem”: a (positive or negative) statement to be evalua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ive answers possibl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nswers are then summ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Questionnaires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avoid obscure termi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present questions in a neutral w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e sure that interviewed know what you are talking ab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not require memory eff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ne aspect per i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meber you are assessing sensations (psychometry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Exampl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 employees are courteous and professional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nex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eport transparently (e.g: in the Service Charter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arn lessons: discuss with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ct to improve what can be impro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Customer” is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 person who has a material experience of our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tential” customers can provide info about reputation (e.g.: expectations) of the serv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Key word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iste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itizen-oriented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rovider” is…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e who provides a public service and organizes its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is Customer Satisfaction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is the way services provided meet / surpass / delude citizens’ expect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value of Satisfaction is the gap between expectations and exper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and why we should care??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n a public service, which is normally monopolistic, measuring CS is the only way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assess the perform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Private companies have other tools such as </a:t>
            </a:r>
            <a:r>
              <a:rPr b="0" lang="it-IT" sz="2500" spc="-1" strike="noStrike" u="sng">
                <a:solidFill>
                  <a:srgbClr val="000000"/>
                </a:solidFill>
                <a:uFillTx/>
                <a:latin typeface="Verdana"/>
              </a:rPr>
              <a:t>profit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public services providers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choos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prioriti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interven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to improve servic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nd th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putation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the provi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Satisfaction adds value to the produ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erformanc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capacity of pursuing the institutional purpose of a public servic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357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sired End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508464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HERE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HOW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Provider side, performance is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Productivit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the capacity of turning factors of production into a product: input -&gt; output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icienc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working or operating in a way that gets the results you want without any waste)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ectiveness: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producing the intended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Customer side,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performance is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ffectiveness: the way a public service satisfies a n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analizes the gap between the customer's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ctation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 and their perceived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rience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07Z</dcterms:modified>
  <cp:revision>13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