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0DA0-BF9F-4577-81A8-A1B2599D1A6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25DC-12E5-4BDA-8B78-AC7BDA946A8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2534-DAE3-4A63-89CA-ED57DD03AE8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6E39-7DAA-4DBF-A450-9CFA6B88AA3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610E-F39C-41C8-9B3B-1DC7C72A49EC}"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73B2-B94D-4D1D-BC23-025E4D4B5ED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B62B-5638-4247-8B0F-54C4E1706CBC}"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4226-4C34-4EAB-B66B-FFC6D507C16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F97A-3983-42C2-AA3B-1B0FF16CE27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7477F-AE3D-4D66-A0CB-823460279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03257-DDD4-4DDE-8B9D-3882F5EBC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A1986-C6BD-4D8B-BFE9-76C0673EE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11A19-DE1E-4D1C-B886-0434A8D5F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E1B0C-48DB-4D63-B834-8B3445B0C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14069-7213-40B5-87A8-3B66F4675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8F056-A9F6-42FD-B660-BE4D4EBEC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DFD99-AE21-4EB2-A945-990E05B9A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15D89-78CF-4AB3-8220-C408FFECC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51319-CABC-4978-8D24-DD0A32575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7F2B2-F2F5-47B1-B6CB-F185D2F88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01257-106C-4FAA-AE84-79D4672DA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A4773-A806-4423-83FD-D1E6EB6E3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87CF4-FB2A-4CB8-A8C6-297817918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CC56E-F669-4190-BE45-C21038000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E3E98-DD43-42FF-B746-7D451B8B2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8DD24-250F-4963-A30A-DF96C9AFB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5C968-C649-4710-8B88-32825D7CA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EB797-2528-489A-B540-94A44F1E1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62061-1BA9-46B0-9133-0E24BF8FD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74CCE-8B37-4259-A8A6-BC28B208C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89A0-B9AD-49CC-96AA-03C7A1E4A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A493-3EB9-4C5D-A366-EDD51136B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94B51-3D79-47F4-900F-6D4B1F88B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F819-923B-46E5-B3FE-F2664A8DFB7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A74F-70E5-4A3A-B5EE-799D60B43D1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a29e"/>
                </a:solidFill>
                <a:latin typeface="Arial"/>
              </a:rPr>
              <a:t>Citizen Oriented Governance</a:t>
            </a:r>
            <a:endParaRPr b="0" lang="en-US" sz="54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n Introduction</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uthority vs. Public Service</a:t>
            </a:r>
            <a:endParaRPr b="0" lang="en-US" sz="44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thoritarian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is at the service of the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bjec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avour – mercy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elf interest-corrup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istrust</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n 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pac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cess-oriented</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mocratic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tate is at the service of the Citize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 Clien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gh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mpartial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us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ansparenc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sult-orien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re Values</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uthoritarian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dividual</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emocratic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itizen</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itizen-oriented Governance</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ut the citizen at the center of your activity</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ffici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st-effectiv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dd valu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ight to acces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Public vs. Private</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onopoly /monopson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al services</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ne product/many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need to obtain  customers’ loyalty</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eviden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profi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petition</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arget customer segmen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fferent products /different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ustomer loyalty</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c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fit</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Global Competitiveness</a:t>
            </a:r>
            <a:endParaRPr b="0" lang="en-US" sz="44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Foreign Investments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migr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Brain Drai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CI of Ukraine = 82 (was 72 in 2008)</a:t>
            </a:r>
            <a:endParaRPr b="0" lang="en-US" sz="28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nything you can do about that?</a:t>
            </a:r>
            <a:endParaRPr b="0" lang="en-US" sz="44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 Property rights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1 Property right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Ethics and corruption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2 Diversion of publics fund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3 Public trust of politician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 Undue influenc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4 Judicial independ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5 Favoritism in decisions of government official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4. Government inefficiency (red tape, bureaucracy and wast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6 Wastefulness of government spending</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7 Burden of government regulation</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5. Security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8 Business costs of terrorism</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9 Reliability of police service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0 Business costs of crime and viol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1 Organized crime</a:t>
            </a:r>
            <a:endParaRPr b="0" lang="en-US" sz="14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nclusion</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ccountability + Effectiveness of the Judiciary has an enormous role in the prosperity and competitiveness of a Countr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But… how we do ensure accountability?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7:45Z</dcterms:modified>
  <cp:revision>7</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